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4011480" y="-360"/>
            <a:ext cx="3027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45960" y="693360"/>
            <a:ext cx="4622760" cy="346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7920" y="4392720"/>
            <a:ext cx="522288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707320"/>
            <a:ext cx="302724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011480" y="8707320"/>
            <a:ext cx="30276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6B3E-E337-4E1E-8619-94F8AF58E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11480" y="8707320"/>
            <a:ext cx="302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1759-B13F-4F29-8428-D9D27D4E5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4632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7920" y="4392720"/>
            <a:ext cx="52228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5280" y="41277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720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1277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17200" y="41277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49200" y="11426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03120" y="11426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5280" y="41277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49200" y="41277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03120" y="41277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17200" y="11426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7200" y="11426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1277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528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1720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17200" y="41277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720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1277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95280" y="41277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720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5280" y="41277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17200" y="41277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49200" y="11426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03120" y="11426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95280" y="41277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949200" y="41277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03120" y="41277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17200" y="11426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7200" y="11426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5280" y="41277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720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17200" y="41277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7200" y="11426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41277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hdr.png"/>
          <p:cNvPicPr/>
          <p:nvPr/>
        </p:nvPicPr>
        <p:blipFill>
          <a:blip r:embed="rId3"/>
          <a:stretch/>
        </p:blipFill>
        <p:spPr>
          <a:xfrm>
            <a:off x="304920" y="1676520"/>
            <a:ext cx="685800" cy="447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9528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279440" y="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aska Sources of Control – SDMI Tas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lc-clip"/>
          <p:cNvPicPr/>
          <p:nvPr/>
        </p:nvPicPr>
        <p:blipFill>
          <a:blip r:embed="rId1"/>
          <a:stretch/>
        </p:blipFill>
        <p:spPr>
          <a:xfrm>
            <a:off x="6477120" y="3581280"/>
            <a:ext cx="2474640" cy="29718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86" name="Picture 8" descr="topo crop"/>
          <p:cNvPicPr/>
          <p:nvPr/>
        </p:nvPicPr>
        <p:blipFill>
          <a:blip r:embed="rId2"/>
          <a:stretch/>
        </p:blipFill>
        <p:spPr>
          <a:xfrm>
            <a:off x="609480" y="3809880"/>
            <a:ext cx="2210040" cy="27432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87" name="Picture 8" descr="radar reflector.jpg"/>
          <p:cNvPicPr/>
          <p:nvPr/>
        </p:nvPicPr>
        <p:blipFill>
          <a:blip r:embed="rId3"/>
          <a:stretch/>
        </p:blipFill>
        <p:spPr>
          <a:xfrm>
            <a:off x="3341520" y="3429000"/>
            <a:ext cx="2602080" cy="3187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ors1.jpg"/>
          <p:cNvPicPr/>
          <p:nvPr/>
        </p:nvPicPr>
        <p:blipFill>
          <a:blip r:embed="rId4"/>
          <a:stretch/>
        </p:blipFill>
        <p:spPr>
          <a:xfrm>
            <a:off x="1066680" y="838080"/>
            <a:ext cx="2095560" cy="27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Gov-Palin-2006_web.jpg"/>
          <p:cNvPicPr/>
          <p:nvPr/>
        </p:nvPicPr>
        <p:blipFill>
          <a:blip r:embed="rId5"/>
          <a:stretch/>
        </p:blipFill>
        <p:spPr>
          <a:xfrm>
            <a:off x="3467160" y="533520"/>
            <a:ext cx="2171520" cy="27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ak bldg 1.png"/>
          <p:cNvPicPr/>
          <p:nvPr/>
        </p:nvPicPr>
        <p:blipFill>
          <a:blip r:embed="rId6"/>
          <a:stretch/>
        </p:blipFill>
        <p:spPr>
          <a:xfrm>
            <a:off x="6248520" y="609480"/>
            <a:ext cx="27194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 Accuracy is Significant Error Source for Imagery 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ontent Placeholder 3" descr="DEM_error.gif"/>
          <p:cNvPicPr/>
          <p:nvPr/>
        </p:nvPicPr>
        <p:blipFill>
          <a:blip r:embed="rId1"/>
          <a:stretch/>
        </p:blipFill>
        <p:spPr>
          <a:xfrm>
            <a:off x="1981080" y="1447920"/>
            <a:ext cx="5310360" cy="52578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ror Budget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328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CP Accu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47920" y="12949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mapping scale i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:24K means a 0.1mm thick line is 2.4m wide on the grou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hieve NMAS, &gt;90% of all sample points must fall less than 40 feet (12.19m) from ground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CP Accu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71600" y="12952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odern survey grade GNSS receivers capable of +/- 5mm + 0.5ppm (1 sig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S may provide sufficient coverage if SDMI requirements are 1:24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715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S Avai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58680" y="1055520"/>
            <a:ext cx="5110200" cy="3948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3887640" y="2971800"/>
            <a:ext cx="5177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s to CORS - UNAV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Content Placeholder 4" descr="Alaska_Base_Coverage.jpg"/>
          <p:cNvPicPr/>
          <p:nvPr/>
        </p:nvPicPr>
        <p:blipFill>
          <a:blip r:embed="rId1"/>
          <a:stretch/>
        </p:blipFill>
        <p:spPr>
          <a:xfrm>
            <a:off x="1371600" y="1255680"/>
            <a:ext cx="7315200" cy="4834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14205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s to C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71600" y="1219320"/>
            <a:ext cx="7315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POS – uses precise GPS satellite epheme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362320" y="2355840"/>
            <a:ext cx="449568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PS and GN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elevation mask 2⁰/100km from base to ensure common satellites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, use a GNSS receiver rather than straight GPS – better for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633920" y="3505320"/>
            <a:ext cx="4129200" cy="327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290520" y="3505320"/>
            <a:ext cx="4129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tellite Imagery as Control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l CE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1981080"/>
          <a:ext cx="8839440" cy="384012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ve Radial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T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m w/ Ref3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O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b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View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m mode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 – 5m ac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Eye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m mode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m stereo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 2-5m mono ac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isting_Control_Sources_v2.jp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&amp;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9528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a survey of existing control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and private sources that could be acquired for Alaska ut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existing image identifiab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gather pragmatic feedback from existing practitio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maps and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 because you’ve got i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n’t mean it’s the right fit for the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Content Placeholder 4" descr="square_peg_in_round_hole_2.jpg"/>
          <p:cNvPicPr/>
          <p:nvPr/>
        </p:nvPicPr>
        <p:blipFill>
          <a:blip r:embed="rId1"/>
          <a:stretch/>
        </p:blipFill>
        <p:spPr>
          <a:xfrm>
            <a:off x="1295280" y="137160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1426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desy, Costal, Civil Enginee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imag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24k N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O or 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e with other datas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detection, veg mapping, E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imagery or 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ollection plat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659916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km Populated Places Buffer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. 63% of Ala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km Runway Buffer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. 63% of Ala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7785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map scale / accuracy of output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with other inpu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identif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tion related to area of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ty over time (seasons and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of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of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ximate Map Scale Equivalen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362320"/>
          <a:ext cx="8763120" cy="289548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Sig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,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,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ry Ortho Error Bud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9528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actors contribute to the overall accuracy of map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ce angle, sensor to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ital Position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PS &amp; IMU / Pointing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5T20:11:53Z</dcterms:created>
  <dc:creator>Greg Baird</dc:creator>
  <dc:description/>
  <dc:language>en-US</dc:language>
  <cp:lastModifiedBy>Russ Cowart</cp:lastModifiedBy>
  <cp:lastPrinted>1999-07-13T21:42:35Z</cp:lastPrinted>
  <dcterms:modified xsi:type="dcterms:W3CDTF">2008-07-23T17:53:53Z</dcterms:modified>
  <cp:revision>360</cp:revision>
  <dc:subject/>
  <dc:title>SAO SETA Kick-Off</dc:title>
</cp:coreProperties>
</file>