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566-8739-4E08-BA81-F0F124CE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900-D4CC-4570-B83C-665561F9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D78-8F55-49B5-BDB5-E2F13DDF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B2A-95C8-4204-88B2-8CFB4123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301-4D24-41CF-8412-FBE33BA6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67D-CA93-43AE-B87A-4134296F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877-00A4-49C0-BCF0-2C70886F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4BA-2828-48FF-BECD-120315B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D02-E49B-490A-8705-6CFFD64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CCF-B7BB-4B25-AD99-F6AD3C4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7A1-0C9F-4AE7-890D-D5C8832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B5A-22C5-4118-87E7-18AA6A2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D714-6CEE-422B-820C-ED5ACF42E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3960" y="410760"/>
            <a:ext cx="84488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tronic DEM deli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data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9760" y="4608360"/>
            <a:ext cx="6832440" cy="28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ne Brod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ne@alaska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laskamapped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97520" y="2763720"/>
            <a:ext cx="4973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all text no pictures presentation less than 9 sli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M DELIVERY OPTIONS 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e've got questions..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at do you have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ow did you get it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at do you want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ow do you want to get it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livering data n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6320" y="1922400"/>
            <a:ext cx="9095040" cy="35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DMI Options available now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b Mapping Services (WMS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ata extracts (Make Map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ownload of DATA bundles (Scraps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 Mapping Servic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Bring the data automagically into GIS deskto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rcGIS (layer fi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Google Earth (KML fi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wathVie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UDi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Many other common desktop GIS too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or server cli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DNR's AlaskaMappe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DMI's AlaskaMapped browse s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rcI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Extrac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560" y="2282400"/>
            <a:ext cx="893304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y simple interface for general publ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an AOI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'Make Map'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've got a map! (basic jpeg + .wld or GeoTIF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ownload of DATA bundles (Scraps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lect AO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 Available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lect a particular data pie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wnload a bundle containing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original data (RA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provided meta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dditional products generated to make it us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masks/footpri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ingested im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 color balance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reprojecte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value added processing (we hope - but you get wh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got plus more so you can fix it up to your need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M Delivery Op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DMI Browse Bundle download (show available data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/con user gets the raw/original data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.. which is not a unified/standardized format/product 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a service you can integrate into your desktop cli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CS (Web Coverage Servic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uld hope for similar benefits of WFS although it doesn't appear to be as widely supported/standardized as we would hope(?)  - Who is using this yet?  What clients/software can ingest i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ips/Tile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Options...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ot DEM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400" y="1104840"/>
            <a:ext cx="9975960" cy="65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 you wa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W, WCS, Grid, Other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 you want i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amless style, Browse Bundle, WCS, Other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future delivery methods we should be considering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DEM - AOI ext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fering reprojection, reformating and reassembling chipped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 Service for value added produ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rivative produ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ou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adow lay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iry dust delivery options --- any idea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We've got a surve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ke it - Available on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http://www.alaskamapped.or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go right ther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http://ln-s.net/24HU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 would be slide #8 which is less than 9 if you start counting at 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