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3814920" y="-36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-360" y="936288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3814920" y="936288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0B0F-3BCC-4565-A6E8-DB417CAB8B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B9E7-C7E4-4AD3-990F-738604523F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92E2-BFCB-4618-899B-95C2E7C9B3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OT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画像の位置精度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以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OT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オルソの位置精度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よるが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以内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えば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以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F6D-F5BC-4533-8577-0A7266D80C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B2D8-9BA0-4CAD-87A0-CD46EAC198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353D-AC06-4D03-9D69-A32ABE9182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A330-1A41-4921-9C31-F1A552A307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E3C7-D678-4AB1-9B1F-33659D0429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AAFA-117E-4CC8-AB22-A8EDF81B4E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2938-D8B9-46BA-B3CC-F9FD07C83E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7846-AD61-4FF3-A58B-A15A926FAF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4BF9-B1CD-4D9F-AB8F-9BA9753B52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vjv,bn,b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F5EB-1CAF-4803-92E1-009AE2FEE4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FB4C-B735-44B6-9266-586ADF7DD2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9354-05FF-48F5-B9AF-7D10F99D3A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カバレッ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⇒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非公開だそう。（小林さん情報。仕様書は公開されているけど・・・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TOPO3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TED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同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TED2, CIB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互換→米軍ほか連合国とのインターオペラビリティに役立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縮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/5000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地図作製に十分な精度をもつ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作製した地図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MAP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MAP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より正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vjv,bn,b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5B46-ACB3-4B2E-BE9E-E39E7588E3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vjv,bn,b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7219-07F9-4B6A-8A25-32A60AC453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3745-B71D-466B-AFD3-8ADE2CA4CC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9E44-13D0-4B9B-B68D-07D82488A0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806F-5D89-48C6-A34F-5D94062CB5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5296-85F3-4B05-B109-A71F2B93FB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5985-FC99-46AD-BAB3-AA69646818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vjv,bn,b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2330-4CDD-4706-BF0D-04965F25D5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tle, place and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F6F1-4066-446A-A6D8-6A486E4B9A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BCF3-D918-4BDA-A09A-6754D2EEB0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カバレッ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⇒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非公開だそう。（小林さん情報。仕様書は公開されているけど・・・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TOPO3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TED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同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TED2, CIB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互換→米軍ほか連合国とのインターオペラビリティに役立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縮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/5000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地図作製に十分な精度をもつ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作製した地図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MAP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MAP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より正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2DA5-A652-4377-AC63-B40172B093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15CF-BF60-404B-8164-607C65DF66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8BD5-C1C1-45F1-8449-4CB88D0E7D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E805-2B60-4772-A825-F0797BEDA9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2462-CEA1-463F-B57D-B65F8B42D9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6A37-248C-4484-86AB-8B7A6523DF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54000" y="76032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719600"/>
            <a:ext cx="49500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定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3D = DTED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レベル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+ CI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ライクのオルソ画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精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T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3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絶対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B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オルソ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5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5.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　　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1.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万）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.2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Header Placeholder 3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vjv,bn,b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4"/>
          <p:cNvSpPr/>
          <p:nvPr/>
        </p:nvSpPr>
        <p:spPr>
          <a:xfrm>
            <a:off x="3814920" y="9363240"/>
            <a:ext cx="2916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15A9-2868-42A6-9F7C-146B35106B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E69-D878-4AF1-AB5B-56D44068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18E-289E-45FD-84AA-8C904B4B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0EB-B4D5-4CE4-9B9E-393EA31A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6576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928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24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6576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928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C21-2198-46F3-8AA6-792CE8CE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03132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F5C-1326-4C06-B567-910912D8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6576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1928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24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06576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1928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9BCB-6B8B-4953-B4A9-1765F905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C5C8-6F73-43D4-BC5D-1C5019D8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B51A-AC71-4B6A-87E8-575E0FB5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297E-524B-44BB-ABD3-DD6FF1EB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FEFE-7D92-4282-8B03-9E9B56A6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DD2-9434-4FAA-9C6E-DF347F7F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03132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2F5B-6D21-4D9F-A644-9535C71D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426-83CA-42E6-A3C1-5A1DDE7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836A-9963-4903-AB33-D67230C1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5C2D-7F79-4E18-A377-A2E3CC8A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378C-BCEC-4CA6-8008-2517C249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1DF6-974A-4208-811C-EB4E024F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6576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19280" y="76464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224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6576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19280" y="3736080"/>
            <a:ext cx="29077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600B-6839-4FBA-853F-48228B5D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8A2-FC91-4DAA-9DC9-058EFBC9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08D-EBC1-403E-ACAC-65EA05AA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03132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825-FC90-420A-A0E7-F8B8CE4E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737-40E4-495D-BA7A-115D416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040" y="373608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A8A-1A2B-46B8-9249-AF78E5F1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040" y="764640"/>
            <a:ext cx="44071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240" y="3736080"/>
            <a:ext cx="903132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446-42F1-4F16-97B0-EAFA39B7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age_type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0" y="6646680"/>
            <a:ext cx="91440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800" spc="-1" strike="noStrike">
                <a:solidFill>
                  <a:srgbClr val="ff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Times New Roman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560" y="660672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Times New Roman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94160" y="649260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49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E30B-6BA6-4D85-B58C-56B36FDB3BF6}" type="slidenum">
              <a:rPr b="1" lang="fr-FR" sz="700" spc="-1" strike="noStrike">
                <a:solidFill>
                  <a:srgbClr val="004992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modTitre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Text Box 5"/>
          <p:cNvSpPr/>
          <p:nvPr/>
        </p:nvSpPr>
        <p:spPr>
          <a:xfrm>
            <a:off x="6659640" y="278136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516720" y="2997360"/>
            <a:ext cx="25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Arial"/>
              </a:rPr>
              <a:t>Steve Mi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appli1"/>
          <p:cNvPicPr/>
          <p:nvPr/>
        </p:nvPicPr>
        <p:blipFill>
          <a:blip r:embed="rId3"/>
          <a:stretch/>
        </p:blipFill>
        <p:spPr>
          <a:xfrm>
            <a:off x="611280" y="2911320"/>
            <a:ext cx="1014480" cy="10144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46" name="Picture 9" descr="3D1"/>
          <p:cNvPicPr/>
          <p:nvPr/>
        </p:nvPicPr>
        <p:blipFill>
          <a:blip r:embed="rId4"/>
          <a:stretch/>
        </p:blipFill>
        <p:spPr>
          <a:xfrm>
            <a:off x="611280" y="4151160"/>
            <a:ext cx="1014480" cy="10144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47" name="Rectangle 10"/>
          <p:cNvSpPr/>
          <p:nvPr/>
        </p:nvSpPr>
        <p:spPr>
          <a:xfrm>
            <a:off x="457200" y="277920"/>
            <a:ext cx="1019160" cy="1015920"/>
          </a:xfrm>
          <a:prstGeom prst="rect">
            <a:avLst/>
          </a:prstGeom>
          <a:solidFill>
            <a:srgbClr val="fa8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station2"/>
          <p:cNvPicPr/>
          <p:nvPr/>
        </p:nvPicPr>
        <p:blipFill>
          <a:blip r:embed="rId5"/>
          <a:stretch/>
        </p:blipFill>
        <p:spPr>
          <a:xfrm>
            <a:off x="611280" y="422280"/>
            <a:ext cx="1014480" cy="10144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49" name="Picture 12" descr="stsernin"/>
          <p:cNvPicPr/>
          <p:nvPr/>
        </p:nvPicPr>
        <p:blipFill>
          <a:blip r:embed="rId6"/>
          <a:stretch/>
        </p:blipFill>
        <p:spPr>
          <a:xfrm>
            <a:off x="611280" y="1663560"/>
            <a:ext cx="1014480" cy="10144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50" name="Picture 13" descr="personnage2"/>
          <p:cNvPicPr/>
          <p:nvPr/>
        </p:nvPicPr>
        <p:blipFill>
          <a:blip r:embed="rId7"/>
          <a:stretch/>
        </p:blipFill>
        <p:spPr>
          <a:xfrm>
            <a:off x="611280" y="5373720"/>
            <a:ext cx="1019160" cy="1019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7148160" y="62150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www.spo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7072200" y="6429240"/>
            <a:ext cx="19288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page_type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4"/>
          </p:nvPr>
        </p:nvSpPr>
        <p:spPr>
          <a:xfrm>
            <a:off x="0" y="6646680"/>
            <a:ext cx="91440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800" spc="-1" strike="noStrike">
                <a:solidFill>
                  <a:srgbClr val="ff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Times New Roman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5"/>
          </p:nvPr>
        </p:nvSpPr>
        <p:spPr>
          <a:xfrm>
            <a:off x="7560" y="660672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Times New Roman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4394160" y="649260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49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1996-67AB-400F-8D34-F2A4DC980B9C}" type="slidenum">
              <a:rPr b="1" lang="fr-FR" sz="700" spc="-1" strike="noStrike">
                <a:solidFill>
                  <a:srgbClr val="004992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1752480" y="1143000"/>
            <a:ext cx="7010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8"/>
          <p:cNvGrpSpPr/>
          <p:nvPr/>
        </p:nvGrpSpPr>
        <p:grpSpPr>
          <a:xfrm>
            <a:off x="2195640" y="2276640"/>
            <a:ext cx="3313080" cy="2217600"/>
            <a:chOff x="2195640" y="2276640"/>
            <a:chExt cx="3313080" cy="2217600"/>
          </a:xfrm>
        </p:grpSpPr>
        <p:pic>
          <p:nvPicPr>
            <p:cNvPr id="142" name="Picture 2" descr="Spot5"/>
            <p:cNvPicPr/>
            <p:nvPr/>
          </p:nvPicPr>
          <p:blipFill>
            <a:blip r:embed="rId1"/>
            <a:stretch/>
          </p:blipFill>
          <p:spPr>
            <a:xfrm>
              <a:off x="2195640" y="2276640"/>
              <a:ext cx="331308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Oval 8"/>
            <p:cNvSpPr/>
            <p:nvPr/>
          </p:nvSpPr>
          <p:spPr>
            <a:xfrm>
              <a:off x="4068720" y="2925720"/>
              <a:ext cx="1079640" cy="86544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4392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ference3D--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TED2 DEM Product</a:t>
            </a:r>
            <a:br>
              <a:rPr sz="3200"/>
            </a:br>
            <a:endParaRPr b="1" lang="en-US" sz="3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195280" y="5013000"/>
            <a:ext cx="432108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Foundation Data Set for Alaska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91BE-2C50-4D4E-BDA1-260DD91B44C2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614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Geo-location accuracy of R</a:t>
            </a:r>
            <a:r>
              <a:rPr b="1" lang="en-US" sz="26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eference3D</a:t>
            </a:r>
            <a:endParaRPr b="1" lang="en-US" sz="26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9030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99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Ref3D</a:t>
            </a:r>
            <a:r>
              <a:rPr b="1" lang="ja-JP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　</a:t>
            </a:r>
            <a:r>
              <a:rPr b="1" lang="en-US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DEM  accuracy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499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Ref3D</a:t>
            </a:r>
            <a:r>
              <a:rPr b="1" lang="ja-JP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　</a:t>
            </a:r>
            <a:r>
              <a:rPr b="1" lang="en-US" sz="20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Ortho Image absolute accuracy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551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Accuracy verified by major independent users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5640" y="1125360"/>
          <a:ext cx="7056360" cy="1849680"/>
        </p:xfrm>
        <a:graphic>
          <a:graphicData uri="http://schemas.openxmlformats.org/drawingml/2006/table">
            <a:tbl>
              <a:tblPr/>
              <a:tblGrid>
                <a:gridCol w="1539720"/>
                <a:gridCol w="2781360"/>
                <a:gridCol w="1582920"/>
                <a:gridCol w="115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f3D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S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NATO</a:t>
                      </a:r>
                      <a:r>
                        <a:rPr b="1" lang="ja-JP" sz="16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DTE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rizon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E90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m  (absolute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）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m   (relative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20 m (abs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23 m (abs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t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E90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m-30m  (absolute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m  (relative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16 m (abs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ＭＳ Ｐゴシック"/>
                        </a:rPr>
                        <a:t>18 m (abs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Footer Placeholder 7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slide_table.JPG"/>
          <p:cNvPicPr/>
          <p:nvPr/>
        </p:nvPicPr>
        <p:blipFill>
          <a:blip r:embed="rId1"/>
          <a:stretch/>
        </p:blipFill>
        <p:spPr>
          <a:xfrm>
            <a:off x="642960" y="3571920"/>
            <a:ext cx="614376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9" descr="412 dalles potentielles"/>
          <p:cNvPicPr/>
          <p:nvPr/>
        </p:nvPicPr>
        <p:blipFill>
          <a:blip r:embed="rId1">
            <a:lum bright="54000"/>
          </a:blip>
          <a:srcRect l="349" t="4239" r="0" b="0"/>
          <a:stretch/>
        </p:blipFill>
        <p:spPr>
          <a:xfrm>
            <a:off x="0" y="857160"/>
            <a:ext cx="9036000" cy="60008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Production of Ref3D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Very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large blocks are mandatory to perform large-      block bundle trigonometric  calculation (explained in more detail later)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Dedicated production line at IGN  Espace (part of the French Mapping Agency)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roduction line started in 2002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5 year HRS/HRG collection plan is ongoing.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In 2008 this plan will be renewed for another 5 years, throurgh at least 2013.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roducts referenced to  WGS84 (horizontal) and  WGS84 EGM96 geoid (vertical)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30 M KM2 of R3D coverage through 2008, +70 M KM2 of coverage to be added during 2009-2013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986D-3EE3-47EA-BE26-F5682AD3C91A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urrent High Resolution Stereo (HRS) Coverage of Alaska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POT has been imaging Alaska for three years to collect HRS, which is the source imagery for Reference3D.  Here is the coverag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atus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s of June 2008, 76% of the state is covered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2667-DD35-4F69-BEA9-3561A7F3958B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june08alaskcoverage.JPG"/>
          <p:cNvPicPr/>
          <p:nvPr/>
        </p:nvPicPr>
        <p:blipFill>
          <a:blip r:embed="rId1"/>
          <a:stretch/>
        </p:blipFill>
        <p:spPr>
          <a:xfrm>
            <a:off x="2000160" y="1866960"/>
            <a:ext cx="5065920" cy="463392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7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Current High Resolution Ground (HRG) Coverage of Alaska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0FE7-6A91-48D8-B8C7-30E96A9AC12E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240" y="785520"/>
            <a:ext cx="90313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is data is used to supplement the HRS data in areas of high slope 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232" name="Picture 8" descr="hrg_alaska_june08.JPG"/>
          <p:cNvPicPr/>
          <p:nvPr/>
        </p:nvPicPr>
        <p:blipFill>
          <a:blip r:embed="rId1"/>
          <a:stretch/>
        </p:blipFill>
        <p:spPr>
          <a:xfrm>
            <a:off x="1571760" y="1563840"/>
            <a:ext cx="5960880" cy="486540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9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SPOT 5 Satellite Platform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35" name="Date Placeholder 2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572A-93BB-4615-88A8-E5731F8D1A21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spot5_HRS"/>
          <p:cNvPicPr/>
          <p:nvPr/>
        </p:nvPicPr>
        <p:blipFill>
          <a:blip r:embed="rId1"/>
          <a:stretch/>
        </p:blipFill>
        <p:spPr>
          <a:xfrm>
            <a:off x="1112760" y="1428840"/>
            <a:ext cx="6959520" cy="459576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1914-F3CD-4455-B497-DC8749B5F9D5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9160" y="5578200"/>
            <a:ext cx="8896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6600"/>
                </a:solidFill>
                <a:latin typeface="Tahoma"/>
              </a:rPr>
              <a:t>The same pixel row is acquired twice from the same orbit, after 90 s</a:t>
            </a:r>
            <a:br>
              <a:rPr sz="1500"/>
            </a:br>
            <a:r>
              <a:rPr b="1" lang="en-US" sz="1500" spc="-1" strike="noStrike">
                <a:solidFill>
                  <a:srgbClr val="ff6600"/>
                </a:solidFill>
                <a:latin typeface="Tahoma"/>
              </a:rPr>
              <a:t>Ground sampling is 5 M across track, and 10 M along track</a:t>
            </a:r>
            <a:endParaRPr b="1" lang="en-US" sz="15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142920"/>
            <a:ext cx="73119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4992"/>
                </a:solidFill>
                <a:latin typeface="Tahoma"/>
              </a:rPr>
              <a:t>HRS : the acquisition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927080" y="1488960"/>
            <a:ext cx="6376680" cy="4122720"/>
            <a:chOff x="1927080" y="1488960"/>
            <a:chExt cx="6376680" cy="4122720"/>
          </a:xfrm>
        </p:grpSpPr>
        <p:sp>
          <p:nvSpPr>
            <p:cNvPr id="244" name="Freeform 5"/>
            <p:cNvSpPr/>
            <p:nvPr/>
          </p:nvSpPr>
          <p:spPr>
            <a:xfrm>
              <a:off x="2365200" y="3564000"/>
              <a:ext cx="2309760" cy="1165320"/>
            </a:xfrm>
            <a:prstGeom prst="pie">
              <a:avLst/>
            </a:prstGeom>
            <a:solidFill>
              <a:srgbClr val="00cc99"/>
            </a:solidFill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3786120" y="3962520"/>
              <a:ext cx="2311200" cy="1164960"/>
            </a:xfrm>
            <a:prstGeom prst="pie">
              <a:avLst/>
            </a:prstGeom>
            <a:solidFill>
              <a:srgbClr val="ff99ff"/>
            </a:solidFill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"/>
            <p:cNvSpPr/>
            <p:nvPr/>
          </p:nvSpPr>
          <p:spPr>
            <a:xfrm flipH="1">
              <a:off x="4353840" y="2784600"/>
              <a:ext cx="1825560" cy="11761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"/>
            <p:cNvSpPr/>
            <p:nvPr/>
          </p:nvSpPr>
          <p:spPr>
            <a:xfrm>
              <a:off x="2097000" y="1666800"/>
              <a:ext cx="6176880" cy="1779480"/>
            </a:xfrm>
            <a:prstGeom prst="line">
              <a:avLst/>
            </a:prstGeom>
            <a:ln w="3348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1927080" y="4113360"/>
              <a:ext cx="5294160" cy="1498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"/>
            <p:cNvSpPr/>
            <p:nvPr/>
          </p:nvSpPr>
          <p:spPr>
            <a:xfrm rot="960000">
              <a:off x="2875680" y="3901680"/>
              <a:ext cx="105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ahoma"/>
                </a:rPr>
                <a:t>Stereo</a:t>
              </a:r>
              <a:r>
                <a:rPr b="1" lang="fr-FR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11" descr="Spot5"/>
            <p:cNvPicPr/>
            <p:nvPr/>
          </p:nvPicPr>
          <p:blipFill>
            <a:blip r:embed="rId1"/>
            <a:stretch/>
          </p:blipFill>
          <p:spPr>
            <a:xfrm>
              <a:off x="5976720" y="2327400"/>
              <a:ext cx="121932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Line 12"/>
            <p:cNvSpPr/>
            <p:nvPr/>
          </p:nvSpPr>
          <p:spPr>
            <a:xfrm flipH="1">
              <a:off x="3755520" y="2784600"/>
              <a:ext cx="2423880" cy="18745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4046040" y="2784600"/>
              <a:ext cx="2127240" cy="15174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4" descr="Spot5"/>
            <p:cNvPicPr/>
            <p:nvPr/>
          </p:nvPicPr>
          <p:blipFill>
            <a:blip r:embed="rId2"/>
            <a:stretch/>
          </p:blipFill>
          <p:spPr>
            <a:xfrm>
              <a:off x="2547720" y="1488960"/>
              <a:ext cx="12193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Line 15"/>
            <p:cNvSpPr/>
            <p:nvPr/>
          </p:nvSpPr>
          <p:spPr>
            <a:xfrm>
              <a:off x="2852640" y="1870200"/>
              <a:ext cx="927000" cy="2792160"/>
            </a:xfrm>
            <a:prstGeom prst="line">
              <a:avLst/>
            </a:prstGeom>
            <a:ln w="1908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2852640" y="1870200"/>
              <a:ext cx="1199880" cy="2430360"/>
            </a:xfrm>
            <a:prstGeom prst="line">
              <a:avLst/>
            </a:prstGeom>
            <a:ln w="1908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52640" y="1870200"/>
              <a:ext cx="1500120" cy="2103120"/>
            </a:xfrm>
            <a:prstGeom prst="line">
              <a:avLst/>
            </a:prstGeom>
            <a:ln w="1908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6980040" y="2098800"/>
              <a:ext cx="1323720" cy="459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b2b2b2"/>
                  </a:solidFill>
                  <a:latin typeface="Times New Roman"/>
                </a:rPr>
                <a:t>T</a:t>
              </a:r>
              <a:r>
                <a:rPr b="1" lang="fr-FR" sz="1800" spc="-1" strike="noStrike">
                  <a:solidFill>
                    <a:srgbClr val="b2b2b2"/>
                  </a:solidFill>
                  <a:latin typeface="Times New Roman"/>
                </a:rPr>
                <a:t>0</a:t>
              </a:r>
              <a:r>
                <a:rPr b="1" lang="fr-FR" sz="2400" spc="-1" strike="noStrike">
                  <a:solidFill>
                    <a:srgbClr val="b2b2b2"/>
                  </a:solidFill>
                  <a:latin typeface="Times New Roman"/>
                </a:rPr>
                <a:t> + 9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3768840" y="1488960"/>
              <a:ext cx="497880" cy="459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b2b2b2"/>
                  </a:solidFill>
                  <a:latin typeface="Times New Roman"/>
                </a:rPr>
                <a:t>T</a:t>
              </a:r>
              <a:r>
                <a:rPr b="1" lang="fr-FR" sz="1800" spc="-1" strike="noStrike">
                  <a:solidFill>
                    <a:srgbClr val="b2b2b2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0"/>
            <p:cNvSpPr/>
            <p:nvPr/>
          </p:nvSpPr>
          <p:spPr>
            <a:xfrm flipV="1">
              <a:off x="5499000" y="4441320"/>
              <a:ext cx="6001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1"/>
            <p:cNvSpPr/>
            <p:nvPr/>
          </p:nvSpPr>
          <p:spPr>
            <a:xfrm>
              <a:off x="4033800" y="4295520"/>
              <a:ext cx="925200" cy="251280"/>
            </a:xfrm>
            <a:prstGeom prst="line">
              <a:avLst/>
            </a:prstGeom>
            <a:ln w="65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2"/>
            <p:cNvSpPr/>
            <p:nvPr/>
          </p:nvSpPr>
          <p:spPr>
            <a:xfrm flipH="1">
              <a:off x="5749560" y="4498920"/>
              <a:ext cx="500400" cy="674640"/>
            </a:xfrm>
            <a:prstGeom prst="line">
              <a:avLst/>
            </a:prstGeom>
            <a:ln w="18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3"/>
            <p:cNvSpPr/>
            <p:nvPr/>
          </p:nvSpPr>
          <p:spPr>
            <a:xfrm rot="18267600">
              <a:off x="5774400" y="4719960"/>
              <a:ext cx="95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120 k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4"/>
            <p:cNvSpPr/>
            <p:nvPr/>
          </p:nvSpPr>
          <p:spPr>
            <a:xfrm rot="900000">
              <a:off x="2998080" y="4779720"/>
              <a:ext cx="18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max. 600 k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5"/>
            <p:cNvSpPr/>
            <p:nvPr/>
          </p:nvSpPr>
          <p:spPr>
            <a:xfrm flipV="1">
              <a:off x="3770280" y="3962160"/>
              <a:ext cx="587160" cy="68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6"/>
            <p:cNvSpPr/>
            <p:nvPr/>
          </p:nvSpPr>
          <p:spPr>
            <a:xfrm>
              <a:off x="2482560" y="3444840"/>
              <a:ext cx="5334120" cy="1471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Freeform 27"/>
          <p:cNvSpPr/>
          <p:nvPr/>
        </p:nvSpPr>
        <p:spPr>
          <a:xfrm>
            <a:off x="204840" y="1700280"/>
            <a:ext cx="444600" cy="638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8"/>
          <p:cNvSpPr/>
          <p:nvPr/>
        </p:nvSpPr>
        <p:spPr>
          <a:xfrm>
            <a:off x="204840" y="1700280"/>
            <a:ext cx="444600" cy="638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142920" y="1122480"/>
            <a:ext cx="1206360" cy="1641240"/>
            <a:chOff x="142920" y="1122480"/>
            <a:chExt cx="1206360" cy="1641240"/>
          </a:xfrm>
        </p:grpSpPr>
        <p:sp>
          <p:nvSpPr>
            <p:cNvPr id="269" name="Rectangle 30"/>
            <p:cNvSpPr/>
            <p:nvPr/>
          </p:nvSpPr>
          <p:spPr>
            <a:xfrm>
              <a:off x="142920" y="1122480"/>
              <a:ext cx="1206360" cy="164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31"/>
            <p:cNvGrpSpPr/>
            <p:nvPr/>
          </p:nvGrpSpPr>
          <p:grpSpPr>
            <a:xfrm>
              <a:off x="226080" y="1262160"/>
              <a:ext cx="1022040" cy="1319040"/>
              <a:chOff x="226080" y="1262160"/>
              <a:chExt cx="1022040" cy="1319040"/>
            </a:xfrm>
          </p:grpSpPr>
          <p:sp>
            <p:nvSpPr>
              <p:cNvPr id="271" name="Line 32"/>
              <p:cNvSpPr/>
              <p:nvPr/>
            </p:nvSpPr>
            <p:spPr>
              <a:xfrm>
                <a:off x="723600" y="1262160"/>
                <a:ext cx="0" cy="21888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3"/>
              <p:cNvSpPr/>
              <p:nvPr/>
            </p:nvSpPr>
            <p:spPr>
              <a:xfrm>
                <a:off x="852480" y="1700280"/>
                <a:ext cx="395640" cy="63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4"/>
              <p:cNvSpPr/>
              <p:nvPr/>
            </p:nvSpPr>
            <p:spPr>
              <a:xfrm>
                <a:off x="339120" y="1739880"/>
                <a:ext cx="375840" cy="642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5"/>
              <p:cNvSpPr/>
              <p:nvPr/>
            </p:nvSpPr>
            <p:spPr>
              <a:xfrm>
                <a:off x="542880" y="1722600"/>
                <a:ext cx="93240" cy="39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6"/>
              <p:cNvSpPr/>
              <p:nvPr/>
            </p:nvSpPr>
            <p:spPr>
              <a:xfrm>
                <a:off x="226080" y="1751040"/>
                <a:ext cx="319680" cy="579240"/>
              </a:xfrm>
              <a:prstGeom prst="pie">
                <a:avLst/>
              </a:pr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"/>
              <p:cNvSpPr/>
              <p:nvPr/>
            </p:nvSpPr>
            <p:spPr>
              <a:xfrm>
                <a:off x="445320" y="1774800"/>
                <a:ext cx="170640" cy="628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8"/>
              <p:cNvSpPr/>
              <p:nvPr/>
            </p:nvSpPr>
            <p:spPr>
              <a:xfrm>
                <a:off x="234720" y="2247840"/>
                <a:ext cx="136800" cy="684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9"/>
              <p:cNvSpPr/>
              <p:nvPr/>
            </p:nvSpPr>
            <p:spPr>
              <a:xfrm>
                <a:off x="234720" y="2247840"/>
                <a:ext cx="136800" cy="68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0"/>
              <p:cNvSpPr/>
              <p:nvPr/>
            </p:nvSpPr>
            <p:spPr>
              <a:xfrm>
                <a:off x="354600" y="2287440"/>
                <a:ext cx="141120" cy="604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1"/>
              <p:cNvSpPr/>
              <p:nvPr/>
            </p:nvSpPr>
            <p:spPr>
              <a:xfrm>
                <a:off x="354600" y="2287440"/>
                <a:ext cx="141120" cy="60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2"/>
              <p:cNvSpPr/>
              <p:nvPr/>
            </p:nvSpPr>
            <p:spPr>
              <a:xfrm>
                <a:off x="251280" y="2216160"/>
                <a:ext cx="126000" cy="712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3"/>
              <p:cNvSpPr/>
              <p:nvPr/>
            </p:nvSpPr>
            <p:spPr>
              <a:xfrm>
                <a:off x="251280" y="2216160"/>
                <a:ext cx="126000" cy="71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4"/>
              <p:cNvSpPr/>
              <p:nvPr/>
            </p:nvSpPr>
            <p:spPr>
              <a:xfrm>
                <a:off x="366120" y="2273400"/>
                <a:ext cx="135360" cy="442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5"/>
              <p:cNvSpPr/>
              <p:nvPr/>
            </p:nvSpPr>
            <p:spPr>
              <a:xfrm>
                <a:off x="366120" y="2273400"/>
                <a:ext cx="135360" cy="44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6"/>
              <p:cNvSpPr/>
              <p:nvPr/>
            </p:nvSpPr>
            <p:spPr>
              <a:xfrm>
                <a:off x="268200" y="2205000"/>
                <a:ext cx="123120" cy="684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7"/>
              <p:cNvSpPr/>
              <p:nvPr/>
            </p:nvSpPr>
            <p:spPr>
              <a:xfrm>
                <a:off x="268200" y="2205000"/>
                <a:ext cx="123120" cy="68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8"/>
              <p:cNvSpPr/>
              <p:nvPr/>
            </p:nvSpPr>
            <p:spPr>
              <a:xfrm>
                <a:off x="371520" y="2235240"/>
                <a:ext cx="129960" cy="522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9"/>
              <p:cNvSpPr/>
              <p:nvPr/>
            </p:nvSpPr>
            <p:spPr>
              <a:xfrm>
                <a:off x="371520" y="2235240"/>
                <a:ext cx="129960" cy="52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0"/>
              <p:cNvSpPr/>
              <p:nvPr/>
            </p:nvSpPr>
            <p:spPr>
              <a:xfrm>
                <a:off x="275400" y="2168640"/>
                <a:ext cx="127080" cy="666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51"/>
              <p:cNvSpPr/>
              <p:nvPr/>
            </p:nvSpPr>
            <p:spPr>
              <a:xfrm>
                <a:off x="275400" y="2168640"/>
                <a:ext cx="127080" cy="66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52"/>
              <p:cNvSpPr/>
              <p:nvPr/>
            </p:nvSpPr>
            <p:spPr>
              <a:xfrm>
                <a:off x="385560" y="2214720"/>
                <a:ext cx="127080" cy="586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53"/>
              <p:cNvSpPr/>
              <p:nvPr/>
            </p:nvSpPr>
            <p:spPr>
              <a:xfrm>
                <a:off x="385560" y="2214720"/>
                <a:ext cx="127080" cy="58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54"/>
              <p:cNvSpPr/>
              <p:nvPr/>
            </p:nvSpPr>
            <p:spPr>
              <a:xfrm>
                <a:off x="299520" y="2158920"/>
                <a:ext cx="108720" cy="558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55"/>
              <p:cNvSpPr/>
              <p:nvPr/>
            </p:nvSpPr>
            <p:spPr>
              <a:xfrm>
                <a:off x="299520" y="2158920"/>
                <a:ext cx="108720" cy="55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56"/>
              <p:cNvSpPr/>
              <p:nvPr/>
            </p:nvSpPr>
            <p:spPr>
              <a:xfrm>
                <a:off x="395640" y="2197080"/>
                <a:ext cx="113040" cy="396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57"/>
              <p:cNvSpPr/>
              <p:nvPr/>
            </p:nvSpPr>
            <p:spPr>
              <a:xfrm>
                <a:off x="395640" y="2197080"/>
                <a:ext cx="113040" cy="39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58"/>
              <p:cNvSpPr/>
              <p:nvPr/>
            </p:nvSpPr>
            <p:spPr>
              <a:xfrm>
                <a:off x="411120" y="1932120"/>
                <a:ext cx="91440" cy="460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411120" y="1932120"/>
                <a:ext cx="91440" cy="46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>
                <a:off x="488880" y="1965240"/>
                <a:ext cx="96120" cy="381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>
                <a:off x="488880" y="1965240"/>
                <a:ext cx="96120" cy="3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62"/>
              <p:cNvSpPr/>
              <p:nvPr/>
            </p:nvSpPr>
            <p:spPr>
              <a:xfrm>
                <a:off x="428400" y="1868400"/>
                <a:ext cx="104400" cy="507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63"/>
              <p:cNvSpPr/>
              <p:nvPr/>
            </p:nvSpPr>
            <p:spPr>
              <a:xfrm>
                <a:off x="428400" y="1868400"/>
                <a:ext cx="104400" cy="50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64"/>
              <p:cNvSpPr/>
              <p:nvPr/>
            </p:nvSpPr>
            <p:spPr>
              <a:xfrm>
                <a:off x="514440" y="1892160"/>
                <a:ext cx="104400" cy="478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65"/>
              <p:cNvSpPr/>
              <p:nvPr/>
            </p:nvSpPr>
            <p:spPr>
              <a:xfrm>
                <a:off x="514440" y="1892160"/>
                <a:ext cx="104400" cy="47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66"/>
              <p:cNvSpPr/>
              <p:nvPr/>
            </p:nvSpPr>
            <p:spPr>
              <a:xfrm>
                <a:off x="478800" y="1768320"/>
                <a:ext cx="94680" cy="381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67"/>
              <p:cNvSpPr/>
              <p:nvPr/>
            </p:nvSpPr>
            <p:spPr>
              <a:xfrm>
                <a:off x="478800" y="1768320"/>
                <a:ext cx="94680" cy="3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68"/>
              <p:cNvSpPr/>
              <p:nvPr/>
            </p:nvSpPr>
            <p:spPr>
              <a:xfrm>
                <a:off x="559800" y="1790640"/>
                <a:ext cx="90360" cy="4464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69"/>
              <p:cNvSpPr/>
              <p:nvPr/>
            </p:nvSpPr>
            <p:spPr>
              <a:xfrm>
                <a:off x="559800" y="1790640"/>
                <a:ext cx="90360" cy="44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70"/>
              <p:cNvSpPr/>
              <p:nvPr/>
            </p:nvSpPr>
            <p:spPr>
              <a:xfrm>
                <a:off x="487440" y="1735200"/>
                <a:ext cx="176400" cy="777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71"/>
              <p:cNvSpPr/>
              <p:nvPr/>
            </p:nvSpPr>
            <p:spPr>
              <a:xfrm flipH="1" flipV="1">
                <a:off x="513000" y="2176200"/>
                <a:ext cx="8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72"/>
              <p:cNvSpPr/>
              <p:nvPr/>
            </p:nvSpPr>
            <p:spPr>
              <a:xfrm>
                <a:off x="718200" y="1593720"/>
                <a:ext cx="293760" cy="192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73"/>
              <p:cNvSpPr/>
              <p:nvPr/>
            </p:nvSpPr>
            <p:spPr>
              <a:xfrm>
                <a:off x="732240" y="1739880"/>
                <a:ext cx="374400" cy="642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74"/>
              <p:cNvSpPr/>
              <p:nvPr/>
            </p:nvSpPr>
            <p:spPr>
              <a:xfrm>
                <a:off x="810000" y="1722600"/>
                <a:ext cx="93240" cy="39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75"/>
              <p:cNvSpPr/>
              <p:nvPr/>
            </p:nvSpPr>
            <p:spPr>
              <a:xfrm>
                <a:off x="900360" y="1751040"/>
                <a:ext cx="319680" cy="579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76"/>
              <p:cNvSpPr/>
              <p:nvPr/>
            </p:nvSpPr>
            <p:spPr>
              <a:xfrm>
                <a:off x="829800" y="1774800"/>
                <a:ext cx="171000" cy="628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77"/>
              <p:cNvSpPr/>
              <p:nvPr/>
            </p:nvSpPr>
            <p:spPr>
              <a:xfrm>
                <a:off x="1074600" y="2247840"/>
                <a:ext cx="137160" cy="684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78"/>
              <p:cNvSpPr/>
              <p:nvPr/>
            </p:nvSpPr>
            <p:spPr>
              <a:xfrm>
                <a:off x="1074600" y="2247840"/>
                <a:ext cx="137160" cy="68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79"/>
              <p:cNvSpPr/>
              <p:nvPr/>
            </p:nvSpPr>
            <p:spPr>
              <a:xfrm>
                <a:off x="950040" y="2287440"/>
                <a:ext cx="141120" cy="604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80"/>
              <p:cNvSpPr/>
              <p:nvPr/>
            </p:nvSpPr>
            <p:spPr>
              <a:xfrm>
                <a:off x="950040" y="2287440"/>
                <a:ext cx="141120" cy="60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81"/>
              <p:cNvSpPr/>
              <p:nvPr/>
            </p:nvSpPr>
            <p:spPr>
              <a:xfrm>
                <a:off x="1068840" y="2216160"/>
                <a:ext cx="126000" cy="712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82"/>
              <p:cNvSpPr/>
              <p:nvPr/>
            </p:nvSpPr>
            <p:spPr>
              <a:xfrm>
                <a:off x="1068840" y="2216160"/>
                <a:ext cx="126000" cy="71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83"/>
              <p:cNvSpPr/>
              <p:nvPr/>
            </p:nvSpPr>
            <p:spPr>
              <a:xfrm>
                <a:off x="944280" y="2273400"/>
                <a:ext cx="135720" cy="442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84"/>
              <p:cNvSpPr/>
              <p:nvPr/>
            </p:nvSpPr>
            <p:spPr>
              <a:xfrm>
                <a:off x="944280" y="2273400"/>
                <a:ext cx="135720" cy="44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85"/>
              <p:cNvSpPr/>
              <p:nvPr/>
            </p:nvSpPr>
            <p:spPr>
              <a:xfrm>
                <a:off x="1054800" y="2205000"/>
                <a:ext cx="123120" cy="684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86"/>
              <p:cNvSpPr/>
              <p:nvPr/>
            </p:nvSpPr>
            <p:spPr>
              <a:xfrm>
                <a:off x="1054800" y="2205000"/>
                <a:ext cx="123120" cy="68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87"/>
              <p:cNvSpPr/>
              <p:nvPr/>
            </p:nvSpPr>
            <p:spPr>
              <a:xfrm>
                <a:off x="944280" y="2235240"/>
                <a:ext cx="129960" cy="522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88"/>
              <p:cNvSpPr/>
              <p:nvPr/>
            </p:nvSpPr>
            <p:spPr>
              <a:xfrm>
                <a:off x="944280" y="2235240"/>
                <a:ext cx="129960" cy="52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89"/>
              <p:cNvSpPr/>
              <p:nvPr/>
            </p:nvSpPr>
            <p:spPr>
              <a:xfrm>
                <a:off x="1043280" y="2168640"/>
                <a:ext cx="125640" cy="666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0"/>
              <p:cNvSpPr/>
              <p:nvPr/>
            </p:nvSpPr>
            <p:spPr>
              <a:xfrm>
                <a:off x="1043280" y="2168640"/>
                <a:ext cx="125640" cy="66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91"/>
              <p:cNvSpPr/>
              <p:nvPr/>
            </p:nvSpPr>
            <p:spPr>
              <a:xfrm>
                <a:off x="934200" y="2214720"/>
                <a:ext cx="126000" cy="586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92"/>
              <p:cNvSpPr/>
              <p:nvPr/>
            </p:nvSpPr>
            <p:spPr>
              <a:xfrm>
                <a:off x="934200" y="2214720"/>
                <a:ext cx="126000" cy="58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93"/>
              <p:cNvSpPr/>
              <p:nvPr/>
            </p:nvSpPr>
            <p:spPr>
              <a:xfrm>
                <a:off x="1037520" y="2158920"/>
                <a:ext cx="110160" cy="558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94"/>
              <p:cNvSpPr/>
              <p:nvPr/>
            </p:nvSpPr>
            <p:spPr>
              <a:xfrm>
                <a:off x="1037520" y="2158920"/>
                <a:ext cx="110160" cy="55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95"/>
              <p:cNvSpPr/>
              <p:nvPr/>
            </p:nvSpPr>
            <p:spPr>
              <a:xfrm>
                <a:off x="936000" y="2197080"/>
                <a:ext cx="115560" cy="3960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96"/>
              <p:cNvSpPr/>
              <p:nvPr/>
            </p:nvSpPr>
            <p:spPr>
              <a:xfrm>
                <a:off x="936000" y="2197080"/>
                <a:ext cx="115560" cy="39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97"/>
              <p:cNvSpPr/>
              <p:nvPr/>
            </p:nvSpPr>
            <p:spPr>
              <a:xfrm>
                <a:off x="942840" y="1932120"/>
                <a:ext cx="91440" cy="460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98"/>
              <p:cNvSpPr/>
              <p:nvPr/>
            </p:nvSpPr>
            <p:spPr>
              <a:xfrm>
                <a:off x="942840" y="1932120"/>
                <a:ext cx="91440" cy="46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99"/>
              <p:cNvSpPr/>
              <p:nvPr/>
            </p:nvSpPr>
            <p:spPr>
              <a:xfrm>
                <a:off x="860760" y="1965240"/>
                <a:ext cx="94320" cy="381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00"/>
              <p:cNvSpPr/>
              <p:nvPr/>
            </p:nvSpPr>
            <p:spPr>
              <a:xfrm>
                <a:off x="860760" y="1965240"/>
                <a:ext cx="94320" cy="3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01"/>
              <p:cNvSpPr/>
              <p:nvPr/>
            </p:nvSpPr>
            <p:spPr>
              <a:xfrm>
                <a:off x="913320" y="1868400"/>
                <a:ext cx="104400" cy="507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02"/>
              <p:cNvSpPr/>
              <p:nvPr/>
            </p:nvSpPr>
            <p:spPr>
              <a:xfrm>
                <a:off x="913320" y="1868400"/>
                <a:ext cx="104400" cy="50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03"/>
              <p:cNvSpPr/>
              <p:nvPr/>
            </p:nvSpPr>
            <p:spPr>
              <a:xfrm>
                <a:off x="826920" y="1892160"/>
                <a:ext cx="104760" cy="4788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04"/>
              <p:cNvSpPr/>
              <p:nvPr/>
            </p:nvSpPr>
            <p:spPr>
              <a:xfrm>
                <a:off x="826920" y="1892160"/>
                <a:ext cx="104760" cy="47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5"/>
              <p:cNvSpPr/>
              <p:nvPr/>
            </p:nvSpPr>
            <p:spPr>
              <a:xfrm>
                <a:off x="872280" y="1768320"/>
                <a:ext cx="94680" cy="381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6"/>
              <p:cNvSpPr/>
              <p:nvPr/>
            </p:nvSpPr>
            <p:spPr>
              <a:xfrm>
                <a:off x="872280" y="1768320"/>
                <a:ext cx="94680" cy="3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07"/>
              <p:cNvSpPr/>
              <p:nvPr/>
            </p:nvSpPr>
            <p:spPr>
              <a:xfrm>
                <a:off x="795960" y="1790640"/>
                <a:ext cx="90360" cy="4464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8"/>
              <p:cNvSpPr/>
              <p:nvPr/>
            </p:nvSpPr>
            <p:spPr>
              <a:xfrm>
                <a:off x="795960" y="1790640"/>
                <a:ext cx="90360" cy="44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09"/>
              <p:cNvSpPr/>
              <p:nvPr/>
            </p:nvSpPr>
            <p:spPr>
              <a:xfrm>
                <a:off x="781560" y="1735200"/>
                <a:ext cx="176400" cy="77760"/>
              </a:xfrm>
              <a:prstGeom prst="pie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110"/>
              <p:cNvSpPr/>
              <p:nvPr/>
            </p:nvSpPr>
            <p:spPr>
              <a:xfrm flipV="1">
                <a:off x="1107000" y="2115720"/>
                <a:ext cx="115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11"/>
              <p:cNvSpPr/>
              <p:nvPr/>
            </p:nvSpPr>
            <p:spPr>
              <a:xfrm flipV="1">
                <a:off x="924480" y="2176200"/>
                <a:ext cx="97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12"/>
              <p:cNvSpPr/>
              <p:nvPr/>
            </p:nvSpPr>
            <p:spPr>
              <a:xfrm>
                <a:off x="456480" y="1311120"/>
                <a:ext cx="165240" cy="247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3"/>
              <p:cNvSpPr/>
              <p:nvPr/>
            </p:nvSpPr>
            <p:spPr>
              <a:xfrm>
                <a:off x="585000" y="1311120"/>
                <a:ext cx="401400" cy="247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14"/>
              <p:cNvSpPr/>
              <p:nvPr/>
            </p:nvSpPr>
            <p:spPr>
              <a:xfrm>
                <a:off x="894960" y="1528920"/>
                <a:ext cx="117360" cy="53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15"/>
              <p:cNvSpPr/>
              <p:nvPr/>
            </p:nvSpPr>
            <p:spPr>
              <a:xfrm flipH="1" flipV="1">
                <a:off x="984240" y="1542960"/>
                <a:ext cx="280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16"/>
              <p:cNvSpPr/>
              <p:nvPr/>
            </p:nvSpPr>
            <p:spPr>
              <a:xfrm>
                <a:off x="979560" y="1584360"/>
                <a:ext cx="33840" cy="1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17"/>
              <p:cNvSpPr/>
              <p:nvPr/>
            </p:nvSpPr>
            <p:spPr>
              <a:xfrm>
                <a:off x="998280" y="1541520"/>
                <a:ext cx="10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18"/>
              <p:cNvSpPr/>
              <p:nvPr/>
            </p:nvSpPr>
            <p:spPr>
              <a:xfrm>
                <a:off x="430920" y="1528920"/>
                <a:ext cx="117360" cy="53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119"/>
              <p:cNvSpPr/>
              <p:nvPr/>
            </p:nvSpPr>
            <p:spPr>
              <a:xfrm flipV="1">
                <a:off x="430920" y="1542960"/>
                <a:ext cx="3096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0"/>
              <p:cNvSpPr/>
              <p:nvPr/>
            </p:nvSpPr>
            <p:spPr>
              <a:xfrm>
                <a:off x="432360" y="1584360"/>
                <a:ext cx="33840" cy="1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21"/>
              <p:cNvSpPr/>
              <p:nvPr/>
            </p:nvSpPr>
            <p:spPr>
              <a:xfrm>
                <a:off x="445320" y="1541520"/>
                <a:ext cx="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22"/>
              <p:cNvSpPr/>
              <p:nvPr/>
            </p:nvSpPr>
            <p:spPr>
              <a:xfrm>
                <a:off x="430920" y="1593720"/>
                <a:ext cx="297000" cy="1922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23"/>
              <p:cNvSpPr/>
              <p:nvPr/>
            </p:nvSpPr>
            <p:spPr>
              <a:xfrm>
                <a:off x="432360" y="1512720"/>
                <a:ext cx="33840" cy="2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24"/>
              <p:cNvSpPr/>
              <p:nvPr/>
            </p:nvSpPr>
            <p:spPr>
              <a:xfrm>
                <a:off x="718200" y="1454040"/>
                <a:ext cx="0" cy="119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25"/>
              <p:cNvSpPr/>
              <p:nvPr/>
            </p:nvSpPr>
            <p:spPr>
              <a:xfrm>
                <a:off x="521640" y="1407960"/>
                <a:ext cx="401400" cy="5580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26"/>
              <p:cNvSpPr/>
              <p:nvPr/>
            </p:nvSpPr>
            <p:spPr>
              <a:xfrm flipH="1">
                <a:off x="719280" y="1263600"/>
                <a:ext cx="452520" cy="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27"/>
              <p:cNvSpPr/>
              <p:nvPr/>
            </p:nvSpPr>
            <p:spPr>
              <a:xfrm>
                <a:off x="819720" y="1657440"/>
                <a:ext cx="383040" cy="911160"/>
              </a:xfrm>
              <a:prstGeom prst="line">
                <a:avLst/>
              </a:prstGeom>
              <a:ln w="28440">
                <a:solidFill>
                  <a:srgbClr val="ff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128"/>
              <p:cNvSpPr/>
              <p:nvPr/>
            </p:nvSpPr>
            <p:spPr>
              <a:xfrm flipH="1">
                <a:off x="245880" y="1655640"/>
                <a:ext cx="372960" cy="9255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29"/>
              <p:cNvSpPr/>
              <p:nvPr/>
            </p:nvSpPr>
            <p:spPr>
              <a:xfrm rot="1099800">
                <a:off x="531720" y="1657440"/>
                <a:ext cx="163800" cy="4428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30"/>
              <p:cNvSpPr/>
              <p:nvPr/>
            </p:nvSpPr>
            <p:spPr>
              <a:xfrm flipV="1">
                <a:off x="622080" y="1608120"/>
                <a:ext cx="88920" cy="47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31"/>
              <p:cNvSpPr/>
              <p:nvPr/>
            </p:nvSpPr>
            <p:spPr>
              <a:xfrm>
                <a:off x="730800" y="1611360"/>
                <a:ext cx="88920" cy="54000"/>
              </a:xfrm>
              <a:prstGeom prst="line">
                <a:avLst/>
              </a:prstGeom>
              <a:ln w="284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32"/>
              <p:cNvSpPr/>
              <p:nvPr/>
            </p:nvSpPr>
            <p:spPr>
              <a:xfrm rot="20478600">
                <a:off x="745920" y="1655280"/>
                <a:ext cx="163800" cy="4464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33"/>
              <p:cNvSpPr/>
              <p:nvPr/>
            </p:nvSpPr>
            <p:spPr>
              <a:xfrm>
                <a:off x="669960" y="1547640"/>
                <a:ext cx="97200" cy="637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Footer Placeholder 135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8D41-497B-45F7-A8FC-A0BE46DE956A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Reference3D</a:t>
            </a:r>
            <a:r>
              <a:rPr b="1" lang="en-US" sz="2200" spc="-1" strike="noStrike">
                <a:solidFill>
                  <a:srgbClr val="004992"/>
                </a:solidFill>
                <a:latin typeface="Times New Roman"/>
                <a:ea typeface="Times New Roman"/>
              </a:rPr>
              <a:t>®</a:t>
            </a: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 accuracy assessed by major customers and labs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9360" y="1142640"/>
            <a:ext cx="88646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lvl="1" marL="442800" indent="0">
              <a:lnSpc>
                <a:spcPct val="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520" indent="-263520">
              <a:lnSpc>
                <a:spcPct val="99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NGA: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442800">
              <a:lnSpc>
                <a:spcPct val="99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RTM - Reference3D</a:t>
            </a:r>
            <a:r>
              <a:rPr b="1" lang="en-US" sz="18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®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cross comparison (2003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42800">
              <a:lnSpc>
                <a:spcPct val="99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Reference3D evaluation over difficult reliefs (2006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42800">
              <a:lnSpc>
                <a:spcPct val="99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CCAP evaluation of SPOT 5 satellite data (2006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4280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3520" indent="-263520">
              <a:lnSpc>
                <a:spcPct val="99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ISPRS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(Int’l Society for Photogrammetry and Remote Sensing - 2004)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2" marL="622440" indent="0">
              <a:lnSpc>
                <a:spcPct val="3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520" indent="-263520">
              <a:lnSpc>
                <a:spcPct val="99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European Commission: 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(2004)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2" marL="622440" indent="0">
              <a:lnSpc>
                <a:spcPct val="5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520" indent="-263520">
              <a:lnSpc>
                <a:spcPct val="99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Various National Mapping Agencies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DGIA (Australia), Oman, Belgium, Germany, and Norway.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263520" indent="0">
              <a:lnSpc>
                <a:spcPct val="9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263520" indent="-263520">
              <a:lnSpc>
                <a:spcPct val="99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USGS, Earth Sciences Division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263520" indent="0">
              <a:lnSpc>
                <a:spcPct val="99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2" marL="622440" indent="0">
              <a:lnSpc>
                <a:spcPct val="9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622440" indent="0">
              <a:lnSpc>
                <a:spcPct val="99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Footer Placeholder 5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36D0-9E18-4671-9C0F-DB294126C9D4}" type="slidenum">
              <a:rPr b="1" lang="en-GB" sz="800" spc="-1" strike="noStrike">
                <a:solidFill>
                  <a:srgbClr val="ff66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99972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Arial"/>
              </a:rPr>
              <a:t>Vertical Statistical Evaluation Summary</a:t>
            </a:r>
            <a:br>
              <a:rPr sz="2400"/>
            </a:br>
            <a:r>
              <a:rPr b="1" lang="en-US" sz="2400" spc="-1" strike="noStrike">
                <a:solidFill>
                  <a:srgbClr val="004992"/>
                </a:solidFill>
                <a:latin typeface="Arial"/>
              </a:rPr>
              <a:t>Ref3D and SRTM vs. High-Accuracy Ground Control Points, Done in 2006</a:t>
            </a:r>
            <a:r>
              <a:rPr b="1" lang="en-US" sz="2000" spc="-1" strike="noStrike">
                <a:solidFill>
                  <a:srgbClr val="004992"/>
                </a:solidFill>
                <a:latin typeface="Arial"/>
              </a:rPr>
              <a:t>	</a:t>
            </a:r>
            <a:br>
              <a:rPr sz="2000"/>
            </a:br>
            <a:r>
              <a:rPr b="1" lang="en-US" sz="1400" spc="-1" strike="noStrike">
                <a:solidFill>
                  <a:srgbClr val="004992"/>
                </a:solidFill>
                <a:latin typeface="Arial"/>
              </a:rPr>
              <a:t>(all values are in meters; approximately 200 pts per cell)</a:t>
            </a:r>
            <a:endParaRPr b="1" lang="en-US" sz="1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56840" y="2571840"/>
            <a:ext cx="6451560" cy="362736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992"/>
                </a:solidFill>
                <a:latin typeface="Arial"/>
              </a:rPr>
              <a:t>Cell ID  (Relief Type) </a:t>
            </a:r>
            <a:r>
              <a:rPr b="1" lang="en-US" sz="14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4992"/>
                </a:solidFill>
                <a:latin typeface="Arial"/>
              </a:rPr>
              <a:t>    Vertical (Z) (DEM-GCP) Difference</a:t>
            </a:r>
            <a:endParaRPr b="1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992"/>
                </a:solidFill>
                <a:latin typeface="Arial"/>
              </a:rPr>
              <a:t>  </a:t>
            </a:r>
            <a:r>
              <a:rPr b="1" lang="en-US" sz="1400" spc="-1" strike="noStrike" u="sng">
                <a:solidFill>
                  <a:srgbClr val="004992"/>
                </a:solidFill>
                <a:uFillTx/>
                <a:latin typeface="Arial"/>
              </a:rPr>
              <a:t>(%High-Med-Low)</a:t>
            </a:r>
            <a:r>
              <a:rPr b="1" lang="en-US" sz="1400" spc="-1" strike="noStrike">
                <a:solidFill>
                  <a:srgbClr val="004992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4992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4992"/>
                </a:solidFill>
                <a:uFillTx/>
                <a:latin typeface="Arial"/>
              </a:rPr>
              <a:t>Mean</a:t>
            </a:r>
            <a:r>
              <a:rPr b="1" lang="en-US" sz="1000" spc="-1" strike="noStrike">
                <a:solidFill>
                  <a:srgbClr val="004992"/>
                </a:solidFill>
                <a:latin typeface="Arial"/>
              </a:rPr>
              <a:t>           </a:t>
            </a:r>
            <a:r>
              <a:rPr b="1" lang="en-US" sz="1000" spc="-1" strike="noStrike" u="sng">
                <a:solidFill>
                  <a:srgbClr val="004992"/>
                </a:solidFill>
                <a:uFillTx/>
                <a:latin typeface="Arial"/>
              </a:rPr>
              <a:t>90% error</a:t>
            </a:r>
            <a:r>
              <a:rPr b="1" lang="en-US" sz="10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4992"/>
                </a:solidFill>
                <a:uFillTx/>
                <a:latin typeface="Arial"/>
              </a:rPr>
              <a:t>Mean</a:t>
            </a:r>
            <a:r>
              <a:rPr b="1" lang="en-US" sz="1000" spc="-1" strike="noStrike">
                <a:solidFill>
                  <a:srgbClr val="004992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4992"/>
                </a:solidFill>
                <a:uFillTx/>
                <a:latin typeface="Arial"/>
              </a:rPr>
              <a:t>90%error</a:t>
            </a:r>
            <a:r>
              <a:rPr b="1" lang="en-US" sz="1000" spc="-1" strike="noStrike">
                <a:solidFill>
                  <a:srgbClr val="004992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N30E33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(0-35-65)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0.59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5.40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-2.33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7.13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N30E32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(0-30-70)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3.44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3.50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2.71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2.28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N30E49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(0-15-85)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2.09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6.05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2.86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5.75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N29E48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(0-0-100)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0.84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4.34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6.33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6.16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N32E39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(0-40-60)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2.77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3.53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4.65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3.86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N33E35       (45-25-30)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-0.17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6.58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1.83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6.35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N30E47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(0-0-100)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-0.48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3.38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4.34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3.85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N30E48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(0-0-100)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0.70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4.05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5.88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3.99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N36E43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(25-25-50)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1.85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5.12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7.99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6.06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N32E48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(30-35-35)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-0.69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5.26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6.61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7.21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N36E44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(90-0-10)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-0.67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6.13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6.76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6.90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SRTM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4992"/>
                </a:solidFill>
                <a:latin typeface="Arial"/>
              </a:rPr>
              <a:t>   Ref3D/SPOT 5</a:t>
            </a:r>
            <a:endParaRPr b="1" lang="en-US" sz="1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50840" y="28306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topbanner"/>
          <p:cNvPicPr/>
          <p:nvPr/>
        </p:nvPicPr>
        <p:blipFill>
          <a:blip r:embed="rId1"/>
          <a:stretch/>
        </p:blipFill>
        <p:spPr>
          <a:xfrm>
            <a:off x="0" y="0"/>
            <a:ext cx="8012160" cy="304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mission_patch_lo"/>
          <p:cNvPicPr/>
          <p:nvPr/>
        </p:nvPicPr>
        <p:blipFill>
          <a:blip r:embed="rId2"/>
          <a:stretch/>
        </p:blipFill>
        <p:spPr>
          <a:xfrm>
            <a:off x="7572240" y="1000080"/>
            <a:ext cx="1333800" cy="132228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7"/>
          <p:cNvSpPr/>
          <p:nvPr/>
        </p:nvSpPr>
        <p:spPr>
          <a:xfrm>
            <a:off x="252000" y="57240"/>
            <a:ext cx="429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daeb0"/>
                </a:solidFill>
                <a:latin typeface="Arial"/>
              </a:rPr>
              <a:t>NATIONAL GEOSPATIAL-INTELLIGENCE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8"/>
          <p:cNvGrpSpPr/>
          <p:nvPr/>
        </p:nvGrpSpPr>
        <p:grpSpPr>
          <a:xfrm>
            <a:off x="214200" y="1071720"/>
            <a:ext cx="1204920" cy="1204920"/>
            <a:chOff x="214200" y="1071720"/>
            <a:chExt cx="1204920" cy="1204920"/>
          </a:xfrm>
        </p:grpSpPr>
        <p:sp>
          <p:nvSpPr>
            <p:cNvPr id="387" name="Oval 9"/>
            <p:cNvSpPr/>
            <p:nvPr/>
          </p:nvSpPr>
          <p:spPr>
            <a:xfrm>
              <a:off x="218880" y="1079640"/>
              <a:ext cx="1197000" cy="119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10" descr="nga_seal_small"/>
            <p:cNvPicPr/>
            <p:nvPr/>
          </p:nvPicPr>
          <p:blipFill>
            <a:blip r:embed="rId3"/>
            <a:stretch/>
          </p:blipFill>
          <p:spPr>
            <a:xfrm>
              <a:off x="214200" y="1071720"/>
              <a:ext cx="1204920" cy="12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Group 11"/>
          <p:cNvGrpSpPr/>
          <p:nvPr/>
        </p:nvGrpSpPr>
        <p:grpSpPr>
          <a:xfrm>
            <a:off x="3927600" y="2806560"/>
            <a:ext cx="3445920" cy="3194280"/>
            <a:chOff x="3927600" y="2806560"/>
            <a:chExt cx="3445920" cy="3194280"/>
          </a:xfrm>
        </p:grpSpPr>
        <p:sp>
          <p:nvSpPr>
            <p:cNvPr id="390" name="Rectangle 12"/>
            <p:cNvSpPr/>
            <p:nvPr/>
          </p:nvSpPr>
          <p:spPr>
            <a:xfrm>
              <a:off x="3927600" y="2806560"/>
              <a:ext cx="1715760" cy="319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3"/>
            <p:cNvSpPr/>
            <p:nvPr/>
          </p:nvSpPr>
          <p:spPr>
            <a:xfrm>
              <a:off x="5643360" y="2806560"/>
              <a:ext cx="1730160" cy="319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16"/>
          <p:cNvSpPr/>
          <p:nvPr/>
        </p:nvSpPr>
        <p:spPr>
          <a:xfrm>
            <a:off x="7534440" y="1765440"/>
            <a:ext cx="1603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ate Placeholder 15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1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Accuracy, circa 2008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 is a project in northern Africa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bsolute horizontal 10.05 M CE95, using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sing SRTM DTED1 as a referenc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bsolute vertical 2.68 M LE90 with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RTM DTED1 as a referenc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2994-41BB-4D27-BEC6-E6BA9FE40923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7" descr="mauritania_block.JPG"/>
          <p:cNvPicPr/>
          <p:nvPr/>
        </p:nvPicPr>
        <p:blipFill>
          <a:blip r:embed="rId1"/>
          <a:stretch/>
        </p:blipFill>
        <p:spPr>
          <a:xfrm>
            <a:off x="4071960" y="2319480"/>
            <a:ext cx="4572000" cy="418140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8"/>
          <p:cNvSpPr/>
          <p:nvPr/>
        </p:nvSpPr>
        <p:spPr>
          <a:xfrm>
            <a:off x="594000" y="585792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auritania Block Bu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6920-2454-4AE2-95D3-BB7A22130FFA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Example of a large-block bundle: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View of the “Stan” large-block (purple area) in Asia. The block comprises </a:t>
            </a:r>
            <a:r>
              <a:rPr b="1" lang="en-GB" sz="1600" spc="-1" strike="noStrike">
                <a:solidFill>
                  <a:srgbClr val="ff6600"/>
                </a:solidFill>
                <a:latin typeface="Arial"/>
              </a:rPr>
              <a:t>420 geocells,  4.5 M km².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  Other statistics: 270 HRS stereo pairs, 130 HRG imagery strips (for mountainous areas), and 26,000 imagery strip tie points.  Large block bundles were created as part of project Alpha.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" descr="surface validée sous les couples"/>
          <p:cNvPicPr/>
          <p:nvPr/>
        </p:nvPicPr>
        <p:blipFill>
          <a:blip r:embed="rId1"/>
          <a:srcRect l="12922" t="0" r="15078" b="3328"/>
          <a:stretch/>
        </p:blipFill>
        <p:spPr>
          <a:xfrm>
            <a:off x="2014560" y="1803240"/>
            <a:ext cx="4914720" cy="441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08" name="Footer Placeholder 7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What is Reference3D ?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Ref3D is a package of the 3 components produced out of the data collected by the High Resolution Stereo (HRS) sensor on the SPOT 5 satellite, and supplemented with High Resolution Ground (HRG) in steep areas. The product is especially designed for large area coverage.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8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489-E06E-4EFF-85A2-6D25FA70E9E6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33520" y="4186080"/>
            <a:ext cx="4572000" cy="1258920"/>
          </a:xfrm>
          <a:prstGeom prst="parallelogram">
            <a:avLst>
              <a:gd name="adj" fmla="val 90792"/>
            </a:avLst>
          </a:prstGeom>
          <a:solidFill>
            <a:srgbClr val="ddddd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244520" y="4913280"/>
            <a:ext cx="29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33520" y="3106800"/>
            <a:ext cx="4572000" cy="1258920"/>
          </a:xfrm>
          <a:prstGeom prst="parallelogram">
            <a:avLst>
              <a:gd name="adj" fmla="val 90792"/>
            </a:avLst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547640" y="3573360"/>
            <a:ext cx="29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Ortho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533520" y="2016000"/>
            <a:ext cx="4572000" cy="1258920"/>
          </a:xfrm>
          <a:prstGeom prst="parallelogram">
            <a:avLst>
              <a:gd name="adj" fmla="val 90792"/>
            </a:avLst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547640" y="213372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DEM  (</a:t>
            </a:r>
            <a:r>
              <a:rPr b="0" i="1" lang="fr-FR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Elevation data</a:t>
            </a:r>
            <a:r>
              <a:rPr b="0" i="1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4800600" y="1881360"/>
            <a:ext cx="4019400" cy="1143000"/>
          </a:xfrm>
          <a:prstGeom prst="wedgeRoundRectCallout">
            <a:avLst>
              <a:gd name="adj1" fmla="val -64851"/>
              <a:gd name="adj2" fmla="val 26388"/>
              <a:gd name="adj3" fmla="val 16667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SoeiKakugothicUB"/>
                <a:ea typeface="HGSoeiKakugothicUB"/>
              </a:rPr>
              <a:t>DTED2 format  ,  10m LE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elevation data at 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rc second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posting (~30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4800600" y="3328920"/>
            <a:ext cx="4092480" cy="1143000"/>
          </a:xfrm>
          <a:prstGeom prst="wedgeRoundRectCallout">
            <a:avLst>
              <a:gd name="adj1" fmla="val -69703"/>
              <a:gd name="adj2" fmla="val 18472"/>
              <a:gd name="adj3" fmla="val 16667"/>
            </a:avLst>
          </a:prstGeom>
          <a:solidFill>
            <a:srgbClr val="ff99cc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SoeiKakugothicUB"/>
                <a:ea typeface="HGSoeiKakugothicUB"/>
              </a:rPr>
              <a:t>CIB5 equivalent,  16m CE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anchromatic ortho-image with 1/6 arc second (~5m) resolution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4800600" y="4921200"/>
            <a:ext cx="4164120" cy="1316160"/>
          </a:xfrm>
          <a:prstGeom prst="wedgeRoundRectCallout">
            <a:avLst>
              <a:gd name="adj1" fmla="val -72226"/>
              <a:gd name="adj2" fmla="val -25273"/>
              <a:gd name="adj3" fmla="val 16667"/>
            </a:avLst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GSoeiKakugothicUB"/>
                <a:ea typeface="HGSoeiKakugothicUB"/>
              </a:rPr>
              <a:t>Quality information layers</a:t>
            </a:r>
            <a:br>
              <a:rPr sz="1400"/>
            </a:b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Date, 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…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Quality info : reliability, effective accuracy,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7"/>
          <p:cNvGrpSpPr/>
          <p:nvPr/>
        </p:nvGrpSpPr>
        <p:grpSpPr>
          <a:xfrm>
            <a:off x="539640" y="5661000"/>
            <a:ext cx="3961080" cy="863640"/>
            <a:chOff x="539640" y="5661000"/>
            <a:chExt cx="3961080" cy="863640"/>
          </a:xfrm>
        </p:grpSpPr>
        <p:sp>
          <p:nvSpPr>
            <p:cNvPr id="160" name="Rectangle 16"/>
            <p:cNvSpPr/>
            <p:nvPr/>
          </p:nvSpPr>
          <p:spPr>
            <a:xfrm>
              <a:off x="539640" y="5661000"/>
              <a:ext cx="3961080" cy="863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744120" y="5734080"/>
              <a:ext cx="35650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oduct Unit</a:t>
              </a:r>
              <a:r>
                <a:rPr b="1" lang="ja-JP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：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°×1° geoc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No need for GC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utoShape 14"/>
          <p:cNvSpPr/>
          <p:nvPr/>
        </p:nvSpPr>
        <p:spPr>
          <a:xfrm>
            <a:off x="6300720" y="2887560"/>
            <a:ext cx="647640" cy="576360"/>
          </a:xfrm>
          <a:prstGeom prst="plus">
            <a:avLst>
              <a:gd name="adj" fmla="val 35815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6300720" y="4424400"/>
            <a:ext cx="647640" cy="576360"/>
          </a:xfrm>
          <a:prstGeom prst="plus">
            <a:avLst>
              <a:gd name="adj" fmla="val 35815"/>
            </a:avLst>
          </a:prstGeom>
          <a:solidFill>
            <a:srgbClr val="ffff00"/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9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Reference3D Production and HRS Archive Status, as of June 2008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40" y="765000"/>
            <a:ext cx="903132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eference3D produced geocells (off-the-shelf)  - 2,900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alidated HRS stereo pair coverage - 122,189,502 KM2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5F31-1DCB-4CC6-8790-FB9C7980AB0D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globalR3D_june.JPG"/>
          <p:cNvPicPr/>
          <p:nvPr/>
        </p:nvPicPr>
        <p:blipFill>
          <a:blip r:embed="rId1"/>
          <a:stretch/>
        </p:blipFill>
        <p:spPr>
          <a:xfrm>
            <a:off x="0" y="1806480"/>
            <a:ext cx="91440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5704-9CEA-458A-863E-26A065A2FE2B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2"/>
                </a:solidFill>
                <a:latin typeface="Arial"/>
              </a:rPr>
              <a:t>Quality control &amp; assessment to ensure Ref3D meets requirements</a:t>
            </a:r>
            <a:endParaRPr b="1" lang="en-US" sz="20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12600" y="765000"/>
            <a:ext cx="903132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How are Ref3D accuracy specifications verified and monito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areful monitoring, plus numerous controls, performed by several independent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NES:  SPOT 5 monitoring includes image geometry &amp; radi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GN:  Control steps during the Ref3D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POT Image:  Formal control of the geo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rench MoD:  V &amp; V work performed by a dedicated cartographic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ssessments by customers, such as the 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NES Global range calibration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cnes_range_locations.JPG"/>
          <p:cNvPicPr/>
          <p:nvPr/>
        </p:nvPicPr>
        <p:blipFill>
          <a:blip r:embed="rId1"/>
          <a:stretch/>
        </p:blipFill>
        <p:spPr>
          <a:xfrm>
            <a:off x="4884840" y="4044960"/>
            <a:ext cx="3902040" cy="2170080"/>
          </a:xfrm>
          <a:prstGeom prst="rect">
            <a:avLst/>
          </a:prstGeom>
          <a:ln w="0">
            <a:noFill/>
          </a:ln>
        </p:spPr>
      </p:pic>
      <p:sp>
        <p:nvSpPr>
          <p:cNvPr id="420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6F60-E583-46CE-A1A4-1BC82DDA4337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4167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Main uses of Ref3D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285840" y="785880"/>
            <a:ext cx="856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Multi scal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Comprehensive tool for image orthorect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Foundation data set for GIS systems performing cadastral analysis and land us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Precision gui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Mission preparation and rehea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  <a:ea typeface="ＭＳ Ｐゴシック"/>
              </a:rPr>
              <a:t>Foundation layer to register intelligence and targe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5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Reference3D is being used by the NGA to fill SRTM voids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27" name="Footer Placeholder 2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1BE7-9DFE-4B56-9455-82F89433499E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all_cells_nafrica"/>
          <p:cNvPicPr/>
          <p:nvPr/>
        </p:nvPicPr>
        <p:blipFill>
          <a:blip r:embed="rId1"/>
          <a:stretch/>
        </p:blipFill>
        <p:spPr>
          <a:xfrm>
            <a:off x="152280" y="928800"/>
            <a:ext cx="89154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Example of a SRTM DEM cell with voids, N19E023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B0C8-274E-458B-97BE-5B809BD38174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7" descr="n19e023_voids_srtm.JPG"/>
          <p:cNvPicPr/>
          <p:nvPr/>
        </p:nvPicPr>
        <p:blipFill>
          <a:blip r:embed="rId1"/>
          <a:stretch/>
        </p:blipFill>
        <p:spPr>
          <a:xfrm>
            <a:off x="1859040" y="909720"/>
            <a:ext cx="54259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2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981F-CC2F-4654-B5D9-8C7290B9DB45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"/>
          <p:cNvSpPr/>
          <p:nvPr/>
        </p:nvSpPr>
        <p:spPr>
          <a:xfrm>
            <a:off x="2411280" y="1320840"/>
            <a:ext cx="3864240" cy="2286000"/>
          </a:xfrm>
          <a:prstGeom prst="roundRect">
            <a:avLst>
              <a:gd name="adj" fmla="val 2260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3013200" y="1333440"/>
            <a:ext cx="24080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ANDO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4"/>
          <p:cNvGrpSpPr/>
          <p:nvPr/>
        </p:nvGrpSpPr>
        <p:grpSpPr>
          <a:xfrm>
            <a:off x="5960880" y="1393920"/>
            <a:ext cx="3193200" cy="2441520"/>
            <a:chOff x="5960880" y="1393920"/>
            <a:chExt cx="3193200" cy="2441520"/>
          </a:xfrm>
        </p:grpSpPr>
        <p:sp>
          <p:nvSpPr>
            <p:cNvPr id="441" name="Text Box 5"/>
            <p:cNvSpPr/>
            <p:nvPr/>
          </p:nvSpPr>
          <p:spPr>
            <a:xfrm>
              <a:off x="6713280" y="1393920"/>
              <a:ext cx="244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sz="2000" spc="-1" strike="noStrike">
                  <a:solidFill>
                    <a:srgbClr val="000000"/>
                  </a:solidFill>
                  <a:latin typeface="Arial"/>
                </a:rPr>
                <a:t>SPOT Ortho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sz="20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6" descr=""/>
            <p:cNvPicPr/>
            <p:nvPr/>
          </p:nvPicPr>
          <p:blipFill>
            <a:blip r:embed="rId1"/>
            <a:stretch/>
          </p:blipFill>
          <p:spPr>
            <a:xfrm>
              <a:off x="6876000" y="1822320"/>
              <a:ext cx="224424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AutoShape 7"/>
            <p:cNvSpPr/>
            <p:nvPr/>
          </p:nvSpPr>
          <p:spPr>
            <a:xfrm rot="21596400">
              <a:off x="5960880" y="2373120"/>
              <a:ext cx="911520" cy="407880"/>
            </a:xfrm>
            <a:prstGeom prst="pi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8"/>
          <p:cNvSpPr/>
          <p:nvPr/>
        </p:nvSpPr>
        <p:spPr>
          <a:xfrm>
            <a:off x="0" y="0"/>
            <a:ext cx="8604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4992"/>
                </a:solidFill>
                <a:latin typeface="Arial"/>
              </a:rPr>
              <a:t>ANDORRE  : a 100% automatic tool for orthorec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0" y="1573200"/>
            <a:ext cx="22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POT Scen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(1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0"/>
          <p:cNvSpPr/>
          <p:nvPr/>
        </p:nvSpPr>
        <p:spPr>
          <a:xfrm rot="21596400">
            <a:off x="1426680" y="2371680"/>
            <a:ext cx="1224000" cy="407880"/>
          </a:xfrm>
          <a:prstGeom prst="pie">
            <a:avLst/>
          </a:prstGeom>
          <a:solidFill>
            <a:srgbClr val="b2b2b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1"/>
          <p:cNvGrpSpPr/>
          <p:nvPr/>
        </p:nvGrpSpPr>
        <p:grpSpPr>
          <a:xfrm>
            <a:off x="2068560" y="4319640"/>
            <a:ext cx="4626000" cy="2133360"/>
            <a:chOff x="2068560" y="4319640"/>
            <a:chExt cx="4626000" cy="2133360"/>
          </a:xfrm>
        </p:grpSpPr>
        <p:pic>
          <p:nvPicPr>
            <p:cNvPr id="448" name="Picture 12" descr="telecom1"/>
            <p:cNvPicPr/>
            <p:nvPr/>
          </p:nvPicPr>
          <p:blipFill>
            <a:blip r:embed="rId2"/>
            <a:stretch/>
          </p:blipFill>
          <p:spPr>
            <a:xfrm>
              <a:off x="2068560" y="4365360"/>
              <a:ext cx="4626000" cy="2087640"/>
            </a:xfrm>
            <a:prstGeom prst="rect">
              <a:avLst/>
            </a:prstGeom>
            <a:ln w="38160">
              <a:solidFill>
                <a:srgbClr val="33ccff"/>
              </a:solidFill>
              <a:miter/>
            </a:ln>
          </p:spPr>
        </p:pic>
        <p:sp>
          <p:nvSpPr>
            <p:cNvPr id="449" name="Text Box 13"/>
            <p:cNvSpPr/>
            <p:nvPr/>
          </p:nvSpPr>
          <p:spPr>
            <a:xfrm>
              <a:off x="2068560" y="4319640"/>
              <a:ext cx="2242440" cy="1130040"/>
            </a:xfrm>
            <a:prstGeom prst="rect">
              <a:avLst/>
            </a:prstGeom>
            <a:solidFill>
              <a:srgbClr val="ffffa1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000" spc="-1" strike="noStrike">
                  <a:solidFill>
                    <a:srgbClr val="808080"/>
                  </a:solidFill>
                  <a:latin typeface="Arial"/>
                </a:rPr>
                <a:t>Ortho</a:t>
              </a:r>
              <a:r>
                <a:rPr b="0" lang="fr-FR" sz="20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sz="2000" spc="-1" strike="noStrike">
                  <a:solidFill>
                    <a:srgbClr val="808080"/>
                  </a:solidFill>
                  <a:latin typeface="Arial"/>
                </a:rPr>
                <a:t>im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Arial"/>
                </a:rPr>
                <a:t>16m CE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14"/>
            <p:cNvSpPr/>
            <p:nvPr/>
          </p:nvSpPr>
          <p:spPr>
            <a:xfrm>
              <a:off x="2993400" y="5351400"/>
              <a:ext cx="29678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sz="2800" spc="-1" strike="noStrike">
                  <a:solidFill>
                    <a:srgbClr val="000000"/>
                  </a:solidFill>
                  <a:latin typeface="Arial"/>
                </a:rPr>
                <a:t>Reference3D </a:t>
              </a:r>
              <a:r>
                <a:rPr b="1" sz="2800" spc="-1" strike="noStrike" baseline="30000">
                  <a:solidFill>
                    <a:srgbClr val="000000"/>
                  </a:solidFill>
                  <a:latin typeface="Tahoma"/>
                </a:rPr>
                <a:t>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5"/>
            <p:cNvSpPr/>
            <p:nvPr/>
          </p:nvSpPr>
          <p:spPr>
            <a:xfrm>
              <a:off x="4451760" y="4319640"/>
              <a:ext cx="2242440" cy="1130040"/>
            </a:xfrm>
            <a:prstGeom prst="rect">
              <a:avLst/>
            </a:prstGeom>
            <a:solidFill>
              <a:srgbClr val="ffffa1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Arial"/>
                </a:rPr>
                <a:t>D</a:t>
              </a:r>
              <a:r>
                <a:rPr b="0" sz="2000" spc="-1" strike="noStrike">
                  <a:solidFill>
                    <a:srgbClr val="808080"/>
                  </a:solidFill>
                  <a:latin typeface="Arial"/>
                </a:rPr>
                <a:t>E</a:t>
              </a:r>
              <a:r>
                <a:rPr b="0" lang="fr-FR" sz="2000" spc="-1" strike="noStrike">
                  <a:solidFill>
                    <a:srgbClr val="80808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Arial"/>
                </a:rPr>
                <a:t>10m LE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6"/>
          <p:cNvGrpSpPr/>
          <p:nvPr/>
        </p:nvGrpSpPr>
        <p:grpSpPr>
          <a:xfrm>
            <a:off x="2550960" y="2205000"/>
            <a:ext cx="1563480" cy="2203560"/>
            <a:chOff x="2550960" y="2205000"/>
            <a:chExt cx="1563480" cy="2203560"/>
          </a:xfrm>
        </p:grpSpPr>
        <p:sp>
          <p:nvSpPr>
            <p:cNvPr id="453" name="AutoShape 17"/>
            <p:cNvSpPr/>
            <p:nvPr/>
          </p:nvSpPr>
          <p:spPr>
            <a:xfrm>
              <a:off x="3039480" y="2949480"/>
              <a:ext cx="455040" cy="1459080"/>
            </a:xfrm>
            <a:prstGeom prst="upDownArrow">
              <a:avLst>
                <a:gd name="adj1" fmla="val 50000"/>
                <a:gd name="adj2" fmla="val 63833"/>
              </a:avLst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8"/>
            <p:cNvSpPr/>
            <p:nvPr/>
          </p:nvSpPr>
          <p:spPr>
            <a:xfrm>
              <a:off x="2550960" y="2205000"/>
              <a:ext cx="1563480" cy="1119600"/>
            </a:xfrm>
            <a:prstGeom prst="rect">
              <a:avLst/>
            </a:pr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utomat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9"/>
          <p:cNvGrpSpPr/>
          <p:nvPr/>
        </p:nvGrpSpPr>
        <p:grpSpPr>
          <a:xfrm>
            <a:off x="4546440" y="2163600"/>
            <a:ext cx="1414440" cy="2244600"/>
            <a:chOff x="4546440" y="2163600"/>
            <a:chExt cx="1414440" cy="2244600"/>
          </a:xfrm>
        </p:grpSpPr>
        <p:sp>
          <p:nvSpPr>
            <p:cNvPr id="456" name="AutoShape 20"/>
            <p:cNvSpPr/>
            <p:nvPr/>
          </p:nvSpPr>
          <p:spPr>
            <a:xfrm>
              <a:off x="5023080" y="2935080"/>
              <a:ext cx="415080" cy="1473120"/>
            </a:xfrm>
            <a:prstGeom prst="upDownArrow">
              <a:avLst>
                <a:gd name="adj1" fmla="val 50000"/>
                <a:gd name="adj2" fmla="val 70651"/>
              </a:avLst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21"/>
            <p:cNvSpPr/>
            <p:nvPr/>
          </p:nvSpPr>
          <p:spPr>
            <a:xfrm>
              <a:off x="4546440" y="2163600"/>
              <a:ext cx="1414440" cy="785520"/>
            </a:xfrm>
            <a:prstGeom prst="rect">
              <a:avLst/>
            </a:pr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Reli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ahoma"/>
                </a:rPr>
                <a:t>Cor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22"/>
          <p:cNvSpPr/>
          <p:nvPr/>
        </p:nvSpPr>
        <p:spPr>
          <a:xfrm rot="21596400">
            <a:off x="3936600" y="2371320"/>
            <a:ext cx="822240" cy="407880"/>
          </a:xfrm>
          <a:prstGeom prst="pie">
            <a:avLst/>
          </a:prstGeom>
          <a:solidFill>
            <a:srgbClr val="b2b2b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3"/>
          <p:cNvSpPr/>
          <p:nvPr/>
        </p:nvSpPr>
        <p:spPr>
          <a:xfrm>
            <a:off x="1843200" y="1241280"/>
            <a:ext cx="5032440" cy="317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4" descr="orléans_XS"/>
          <p:cNvPicPr/>
          <p:nvPr/>
        </p:nvPicPr>
        <p:blipFill>
          <a:blip r:embed="rId3"/>
          <a:stretch/>
        </p:blipFill>
        <p:spPr>
          <a:xfrm>
            <a:off x="231840" y="2063880"/>
            <a:ext cx="1133280" cy="1077840"/>
          </a:xfrm>
          <a:prstGeom prst="rect">
            <a:avLst/>
          </a:prstGeom>
          <a:ln w="0">
            <a:noFill/>
          </a:ln>
        </p:spPr>
      </p:pic>
      <p:sp>
        <p:nvSpPr>
          <p:cNvPr id="461" name="Footer Placeholder 2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AEAB-22D5-4B3F-83FC-DA01F8CEBAF1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"/>
          <p:cNvSpPr/>
          <p:nvPr/>
        </p:nvSpPr>
        <p:spPr>
          <a:xfrm>
            <a:off x="1979640" y="3083040"/>
            <a:ext cx="0" cy="8636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5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HGP創英角ｺﾞｼｯｸUB"/>
                <a:ea typeface="HGP創英角ｺﾞｼｯｸUB"/>
              </a:rPr>
              <a:t>Homogeneity , consistency of customer</a:t>
            </a:r>
            <a:r>
              <a:rPr b="1" lang="en-US" sz="2400" spc="-1" strike="noStrike">
                <a:solidFill>
                  <a:srgbClr val="004992"/>
                </a:solidFill>
                <a:latin typeface="Arial"/>
                <a:ea typeface="HGP創英角ｺﾞｼｯｸUB"/>
              </a:rPr>
              <a:t>’</a:t>
            </a:r>
            <a:r>
              <a:rPr b="1" lang="en-US" sz="2400" spc="-1" strike="noStrike">
                <a:solidFill>
                  <a:srgbClr val="004992"/>
                </a:solidFill>
                <a:latin typeface="HGP創英角ｺﾞｼｯｸUB"/>
                <a:ea typeface="HGP創英角ｺﾞｼｯｸUB"/>
              </a:rPr>
              <a:t>s product on Ref3D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00" y="764640"/>
            <a:ext cx="86630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Consistency of customer’s production based on Ref3D is assured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rthomosaic produc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ectormap product etc…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7" name="Group 5"/>
          <p:cNvGrpSpPr/>
          <p:nvPr/>
        </p:nvGrpSpPr>
        <p:grpSpPr>
          <a:xfrm>
            <a:off x="395280" y="3154320"/>
            <a:ext cx="8280000" cy="2230920"/>
            <a:chOff x="395280" y="3154320"/>
            <a:chExt cx="8280000" cy="2230920"/>
          </a:xfrm>
        </p:grpSpPr>
        <p:sp>
          <p:nvSpPr>
            <p:cNvPr id="468" name="AutoShape 6"/>
            <p:cNvSpPr/>
            <p:nvPr/>
          </p:nvSpPr>
          <p:spPr>
            <a:xfrm>
              <a:off x="395280" y="3154320"/>
              <a:ext cx="8280000" cy="2221560"/>
            </a:xfrm>
            <a:prstGeom prst="parallelogram">
              <a:avLst>
                <a:gd name="adj" fmla="val -68398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7"/>
            <p:cNvGrpSpPr/>
            <p:nvPr/>
          </p:nvGrpSpPr>
          <p:grpSpPr>
            <a:xfrm>
              <a:off x="995760" y="3164040"/>
              <a:ext cx="6677640" cy="2221200"/>
              <a:chOff x="995760" y="3164040"/>
              <a:chExt cx="6677640" cy="2221200"/>
            </a:xfrm>
          </p:grpSpPr>
          <p:sp>
            <p:nvSpPr>
              <p:cNvPr id="470" name="Line 8"/>
              <p:cNvSpPr/>
              <p:nvPr/>
            </p:nvSpPr>
            <p:spPr>
              <a:xfrm flipV="1">
                <a:off x="5890680" y="3164040"/>
                <a:ext cx="178272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9"/>
              <p:cNvSpPr/>
              <p:nvPr/>
            </p:nvSpPr>
            <p:spPr>
              <a:xfrm flipV="1">
                <a:off x="1786680" y="3164040"/>
                <a:ext cx="178236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10"/>
              <p:cNvSpPr/>
              <p:nvPr/>
            </p:nvSpPr>
            <p:spPr>
              <a:xfrm flipV="1">
                <a:off x="3388320" y="3164040"/>
                <a:ext cx="178272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1"/>
              <p:cNvSpPr/>
              <p:nvPr/>
            </p:nvSpPr>
            <p:spPr>
              <a:xfrm flipV="1">
                <a:off x="4970880" y="3164040"/>
                <a:ext cx="178272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2"/>
              <p:cNvSpPr/>
              <p:nvPr/>
            </p:nvSpPr>
            <p:spPr>
              <a:xfrm flipV="1">
                <a:off x="4199040" y="3164040"/>
                <a:ext cx="178236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13"/>
              <p:cNvSpPr/>
              <p:nvPr/>
            </p:nvSpPr>
            <p:spPr>
              <a:xfrm flipV="1">
                <a:off x="2583000" y="3164040"/>
                <a:ext cx="178236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14"/>
              <p:cNvSpPr/>
              <p:nvPr/>
            </p:nvSpPr>
            <p:spPr>
              <a:xfrm flipV="1">
                <a:off x="995760" y="3164040"/>
                <a:ext cx="1782360" cy="222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15"/>
            <p:cNvGrpSpPr/>
            <p:nvPr/>
          </p:nvGrpSpPr>
          <p:grpSpPr>
            <a:xfrm>
              <a:off x="714600" y="3584880"/>
              <a:ext cx="7588080" cy="1413720"/>
              <a:chOff x="714600" y="3584880"/>
              <a:chExt cx="7588080" cy="1413720"/>
            </a:xfrm>
          </p:grpSpPr>
          <p:sp>
            <p:nvSpPr>
              <p:cNvPr id="478" name="Line 16"/>
              <p:cNvSpPr/>
              <p:nvPr/>
            </p:nvSpPr>
            <p:spPr>
              <a:xfrm>
                <a:off x="1820160" y="3584880"/>
                <a:ext cx="648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7"/>
              <p:cNvSpPr/>
              <p:nvPr/>
            </p:nvSpPr>
            <p:spPr>
              <a:xfrm>
                <a:off x="1076400" y="4529160"/>
                <a:ext cx="648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18"/>
              <p:cNvSpPr/>
              <p:nvPr/>
            </p:nvSpPr>
            <p:spPr>
              <a:xfrm>
                <a:off x="714600" y="4998600"/>
                <a:ext cx="648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9"/>
              <p:cNvSpPr/>
              <p:nvPr/>
            </p:nvSpPr>
            <p:spPr>
              <a:xfrm>
                <a:off x="1467360" y="4039920"/>
                <a:ext cx="648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AutoShape 20"/>
          <p:cNvSpPr/>
          <p:nvPr/>
        </p:nvSpPr>
        <p:spPr>
          <a:xfrm>
            <a:off x="1258920" y="3730680"/>
            <a:ext cx="2790720" cy="850680"/>
          </a:xfrm>
          <a:prstGeom prst="parallelogram">
            <a:avLst>
              <a:gd name="adj" fmla="val 82288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ff0000"/>
            </a:solidFill>
            <a:miter/>
          </a:ln>
          <a:effectLst>
            <a:outerShdw dist="172860" dir="437541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1"/>
          <p:cNvSpPr/>
          <p:nvPr/>
        </p:nvSpPr>
        <p:spPr>
          <a:xfrm>
            <a:off x="1258920" y="3298680"/>
            <a:ext cx="2808360" cy="863640"/>
          </a:xfrm>
          <a:prstGeom prst="parallelogram">
            <a:avLst>
              <a:gd name="adj" fmla="val 8272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  <a:effectLst>
            <a:outerShdw dist="91658" dir="338234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1042920" y="5386320"/>
            <a:ext cx="151128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ea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3203640" y="5386320"/>
            <a:ext cx="1511280" cy="825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ea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5292720" y="5386320"/>
            <a:ext cx="1511280" cy="825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ea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5"/>
          <p:cNvSpPr/>
          <p:nvPr/>
        </p:nvSpPr>
        <p:spPr>
          <a:xfrm>
            <a:off x="1258920" y="3946680"/>
            <a:ext cx="0" cy="863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6"/>
          <p:cNvSpPr/>
          <p:nvPr/>
        </p:nvSpPr>
        <p:spPr>
          <a:xfrm>
            <a:off x="3348000" y="3946680"/>
            <a:ext cx="0" cy="863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7"/>
          <p:cNvSpPr/>
          <p:nvPr/>
        </p:nvSpPr>
        <p:spPr>
          <a:xfrm>
            <a:off x="4067280" y="3083040"/>
            <a:ext cx="0" cy="8636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8"/>
          <p:cNvSpPr/>
          <p:nvPr/>
        </p:nvSpPr>
        <p:spPr>
          <a:xfrm>
            <a:off x="5580000" y="3298680"/>
            <a:ext cx="0" cy="8636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9"/>
          <p:cNvSpPr/>
          <p:nvPr/>
        </p:nvSpPr>
        <p:spPr>
          <a:xfrm>
            <a:off x="4859280" y="3946680"/>
            <a:ext cx="2790720" cy="850680"/>
          </a:xfrm>
          <a:prstGeom prst="parallelogram">
            <a:avLst>
              <a:gd name="adj" fmla="val 82288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ffff00"/>
            </a:solidFill>
            <a:miter/>
          </a:ln>
          <a:effectLst>
            <a:outerShdw dist="172860" dir="437541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0"/>
          <p:cNvSpPr/>
          <p:nvPr/>
        </p:nvSpPr>
        <p:spPr>
          <a:xfrm>
            <a:off x="4859280" y="4162320"/>
            <a:ext cx="0" cy="8636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1"/>
          <p:cNvSpPr/>
          <p:nvPr/>
        </p:nvSpPr>
        <p:spPr>
          <a:xfrm>
            <a:off x="6948360" y="4162320"/>
            <a:ext cx="0" cy="8636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2"/>
          <p:cNvSpPr/>
          <p:nvPr/>
        </p:nvSpPr>
        <p:spPr>
          <a:xfrm>
            <a:off x="7667640" y="3298680"/>
            <a:ext cx="0" cy="8636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3"/>
          <p:cNvSpPr/>
          <p:nvPr/>
        </p:nvSpPr>
        <p:spPr>
          <a:xfrm>
            <a:off x="3924360" y="2938320"/>
            <a:ext cx="0" cy="8636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4"/>
          <p:cNvSpPr/>
          <p:nvPr/>
        </p:nvSpPr>
        <p:spPr>
          <a:xfrm>
            <a:off x="3203640" y="3586320"/>
            <a:ext cx="2790720" cy="850680"/>
          </a:xfrm>
          <a:prstGeom prst="parallelogram">
            <a:avLst>
              <a:gd name="adj" fmla="val 82288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ff"/>
            </a:solidFill>
            <a:miter/>
          </a:ln>
          <a:effectLst>
            <a:outerShdw dist="172860" dir="437541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5"/>
          <p:cNvSpPr/>
          <p:nvPr/>
        </p:nvSpPr>
        <p:spPr>
          <a:xfrm>
            <a:off x="4859280" y="3514680"/>
            <a:ext cx="2808360" cy="863640"/>
          </a:xfrm>
          <a:prstGeom prst="parallelogram">
            <a:avLst>
              <a:gd name="adj" fmla="val 82724"/>
            </a:avLst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  <a:effectLst>
            <a:outerShdw dist="91658" dir="338234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6"/>
          <p:cNvSpPr/>
          <p:nvPr/>
        </p:nvSpPr>
        <p:spPr>
          <a:xfrm>
            <a:off x="3203640" y="3154320"/>
            <a:ext cx="2808360" cy="863640"/>
          </a:xfrm>
          <a:prstGeom prst="parallelogram">
            <a:avLst>
              <a:gd name="adj" fmla="val 82724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ff"/>
            </a:solidFill>
            <a:miter/>
          </a:ln>
          <a:effectLst>
            <a:outerShdw dist="91658" dir="338234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7"/>
          <p:cNvSpPr/>
          <p:nvPr/>
        </p:nvSpPr>
        <p:spPr>
          <a:xfrm>
            <a:off x="3203640" y="3801960"/>
            <a:ext cx="0" cy="8636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8"/>
          <p:cNvSpPr/>
          <p:nvPr/>
        </p:nvSpPr>
        <p:spPr>
          <a:xfrm>
            <a:off x="5292720" y="3801960"/>
            <a:ext cx="0" cy="8636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39"/>
          <p:cNvSpPr/>
          <p:nvPr/>
        </p:nvSpPr>
        <p:spPr>
          <a:xfrm>
            <a:off x="6012000" y="2938320"/>
            <a:ext cx="0" cy="8636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40"/>
          <p:cNvSpPr/>
          <p:nvPr/>
        </p:nvSpPr>
        <p:spPr>
          <a:xfrm rot="1762200">
            <a:off x="3203640" y="2793960"/>
            <a:ext cx="647640" cy="22320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41"/>
          <p:cNvSpPr/>
          <p:nvPr/>
        </p:nvSpPr>
        <p:spPr>
          <a:xfrm rot="1762200">
            <a:off x="4932360" y="3009960"/>
            <a:ext cx="647640" cy="22320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WordArt 42"/>
          <p:cNvSpPr txBox="1"/>
          <p:nvPr/>
        </p:nvSpPr>
        <p:spPr>
          <a:xfrm>
            <a:off x="6084720" y="4954680"/>
            <a:ext cx="993960" cy="34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97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R3D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5" name="WordArt 43"/>
          <p:cNvSpPr txBox="1"/>
          <p:nvPr/>
        </p:nvSpPr>
        <p:spPr>
          <a:xfrm>
            <a:off x="6227640" y="4522680"/>
            <a:ext cx="73044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Orth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6" name="WordArt 44"/>
          <p:cNvSpPr txBox="1"/>
          <p:nvPr/>
        </p:nvSpPr>
        <p:spPr>
          <a:xfrm>
            <a:off x="6300720" y="4091040"/>
            <a:ext cx="8143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859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Vector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4356000" y="1930320"/>
            <a:ext cx="2880000" cy="8254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lete continuity en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AutoShape 46"/>
          <p:cNvCxnSpPr>
            <a:stCxn id="507" idx="1"/>
            <a:endCxn id="502" idx="0"/>
          </p:cNvCxnSpPr>
          <p:nvPr/>
        </p:nvCxnSpPr>
        <p:spPr>
          <a:xfrm flipH="1">
            <a:off x="4079520" y="2355480"/>
            <a:ext cx="262800" cy="568800"/>
          </a:xfrm>
          <a:prstGeom prst="straightConnector1">
            <a:avLst/>
          </a:prstGeom>
          <a:ln w="28440">
            <a:solidFill>
              <a:srgbClr val="ff9900"/>
            </a:solidFill>
            <a:miter/>
          </a:ln>
        </p:spPr>
      </p:cxnSp>
      <p:cxnSp>
        <p:nvCxnSpPr>
          <p:cNvPr id="509" name="AutoShape 47"/>
          <p:cNvCxnSpPr>
            <a:stCxn id="507" idx="2"/>
            <a:endCxn id="503" idx="0"/>
          </p:cNvCxnSpPr>
          <p:nvPr/>
        </p:nvCxnSpPr>
        <p:spPr>
          <a:xfrm>
            <a:off x="5795640" y="2795760"/>
            <a:ext cx="13320" cy="344880"/>
          </a:xfrm>
          <a:prstGeom prst="straightConnector1">
            <a:avLst/>
          </a:prstGeom>
          <a:ln w="28440">
            <a:solidFill>
              <a:srgbClr val="ff9900"/>
            </a:solidFill>
            <a:miter/>
          </a:ln>
        </p:spPr>
      </p:cxnSp>
      <p:sp>
        <p:nvSpPr>
          <p:cNvPr id="510" name="AutoShape 48"/>
          <p:cNvSpPr/>
          <p:nvPr/>
        </p:nvSpPr>
        <p:spPr>
          <a:xfrm>
            <a:off x="6156360" y="1125360"/>
            <a:ext cx="2987640" cy="1008360"/>
          </a:xfrm>
          <a:prstGeom prst="cloudCallout">
            <a:avLst>
              <a:gd name="adj1" fmla="val -22476"/>
              <a:gd name="adj2" fmla="val 14564"/>
            </a:avLst>
          </a:prstGeom>
          <a:solidFill>
            <a:srgbClr val="ffff99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Confirmed by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50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39D1-66E5-4A3F-A9F3-84C6DA48C400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Arial"/>
              </a:rPr>
              <a:t>Means to monitor polar ice cap status, SPIRIT project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928600" y="4214520"/>
            <a:ext cx="371484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516" name="Picture 2" descr="greenland et icecap"/>
          <p:cNvPicPr/>
          <p:nvPr/>
        </p:nvPicPr>
        <p:blipFill>
          <a:blip r:embed="rId1"/>
          <a:stretch/>
        </p:blipFill>
        <p:spPr>
          <a:xfrm>
            <a:off x="272880" y="642960"/>
            <a:ext cx="8442360" cy="5643720"/>
          </a:xfrm>
          <a:prstGeom prst="rect">
            <a:avLst/>
          </a:prstGeom>
          <a:ln w="0">
            <a:noFill/>
          </a:ln>
        </p:spPr>
      </p:pic>
      <p:sp>
        <p:nvSpPr>
          <p:cNvPr id="517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E279-CE24-4845-9560-0D65F76AFC20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Arial"/>
              </a:rPr>
              <a:t>Means to monitor polar ice cap status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2920" y="713880"/>
            <a:ext cx="88646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0640" indent="0">
              <a:lnSpc>
                <a:spcPct val="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lvl="1" marL="438120" indent="0">
              <a:lnSpc>
                <a:spcPct val="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4992"/>
                </a:solidFill>
                <a:uFillTx/>
                <a:latin typeface="Arial"/>
              </a:rPr>
              <a:t>SPIRIT Project</a:t>
            </a:r>
            <a:r>
              <a:rPr b="1" lang="en-US" sz="2000" spc="-1" strike="noStrike">
                <a:solidFill>
                  <a:srgbClr val="004992"/>
                </a:solidFill>
                <a:latin typeface="Arial"/>
              </a:rPr>
              <a:t>, with contributions from the French space agency, CNES, Spot, and IGN Espace. The chief goals of this project are to: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-260640">
              <a:lnSpc>
                <a:spcPct val="99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Image 2.5 million sq.km. of the Arctic and Antarctic regions, covering glaciers, small ice caps and the coasts of Antarctica and Greenland.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-260640">
              <a:lnSpc>
                <a:spcPct val="99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llow scientists around the world working on themes in line with the International Polar Year (IPY) to access the SPOT 5 HRS archive through a dedicated Web interface.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-260640">
              <a:lnSpc>
                <a:spcPct val="99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istribute DEM products free of charge to research laboratories approved by CNES, to give them a baseline topography that until now has been lacking for studies of polar ice, so they can map change in these regions.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260640" indent="-260640">
              <a:lnSpc>
                <a:spcPct val="99000"/>
              </a:lnSpc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n initial imaging campaign in the Northern Hemisphere has already covered 830,000 sq.km of Arctic regions. The ongoing Antarctic campaign has set out with the aim of covering 2 million KM2 of the ice sheet.</a:t>
            </a: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lvl="2" marL="615960" indent="0">
              <a:lnSpc>
                <a:spcPct val="39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9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lvl="2" marL="615960" indent="0">
              <a:lnSpc>
                <a:spcPct val="9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615960" indent="0">
              <a:lnSpc>
                <a:spcPct val="99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Footer Placeholder 5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SPOT Offer for Alaska Coverage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icensing: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ption 1 “Regional Business User” or RBU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cludes US federal government, state government, and local government entities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cludes contractors, when working on projects for the above government entities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ption 1 National Elevation Data (NED).  We also refer to this option as “Public Release.”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sts: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tail (list) cost from our product catalogue is $4.00 per KM2 for the DEM only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tail cost for the DEM + Ortho + Quality masks is $10.95 per KM2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Quantity discounts apply, of course.  Based on the binning ranges suggested, the total cost is in the $10 to 30 M bin for state-wide coverage, with flexible licensing.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elivery time frame: 12 to 18 months from start of the project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84AE-7D22-4DDF-9D45-94BC27C1D775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4680-6455-4474-BE90-ECC155B8140C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In what kind of format is the product delivered?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We use a DIMAP format, which is an XML-based hierarchical file structure.  We do this so that all the elements of the Ref3D product can be easily encapsulated into a simple software structure and viewed by any generic browser, such as Microsoft Internet Explorer or Firefox.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69" name="Picture 6" descr="explorer_view.JPG"/>
          <p:cNvPicPr/>
          <p:nvPr/>
        </p:nvPicPr>
        <p:blipFill>
          <a:blip r:embed="rId1"/>
          <a:stretch/>
        </p:blipFill>
        <p:spPr>
          <a:xfrm>
            <a:off x="357120" y="1785960"/>
            <a:ext cx="8572680" cy="4595760"/>
          </a:xfrm>
          <a:prstGeom prst="rect">
            <a:avLst/>
          </a:prstGeom>
          <a:ln w="0">
            <a:noFill/>
          </a:ln>
        </p:spPr>
      </p:pic>
      <p:sp>
        <p:nvSpPr>
          <p:cNvPr id="170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How Reference3D fits into the topology of Global DEM data sets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240" y="764640"/>
            <a:ext cx="90313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TOPO5--5 minute (10 KM) grid  1988  public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TPO30 --30 arc second (1 KM) grid  1997 public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lobe--30 arc second  grid  1998 public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CE GDEM--30 arc second grid 2003 public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RTM DTED 1--3 arc second grid  2004  public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RTM DTED 2--1 arc second grid ● not public  data ● collected January 2000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istributed by the NGA, used by US and coalition partners to create GIS products supporting military and relief operations, production is ongoing 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Reference3D--1 arc second grid production began in 2002,  commercial, not public release, production will continue through at least 2013, one benefit--able to go back and redo areas, allowing change analysis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uture—TerraSAR-X + Tandem-X, IOC ~ 2011, estimated DTED level 3 fidelity, commercial, not public release, InfoTerra GMBH will be global data distributor 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uture—COSMOS-Skymed , Sabrina/Prisma tandem satellite project, IOC ~ 2011, no information from ASI on resolution or coverage, data to be distributed through e-GEOS, the Italian company set up to distribute all products and services from the satellites</a:t>
            </a: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CE50-15E9-4DEB-81DB-BFAE0B471AEA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BDD7-5B99-4524-936D-F918EDF41FC2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112680" y="785880"/>
            <a:ext cx="9031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vailability of the DTED1 &amp; 2 SRTM  D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bout the lower 10% of Alaska is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031320" cy="566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Global DEM Topology, Continued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pic>
        <p:nvPicPr>
          <p:cNvPr id="537" name="Picture 4" descr="monde SRTM"/>
          <p:cNvPicPr/>
          <p:nvPr/>
        </p:nvPicPr>
        <p:blipFill>
          <a:blip r:embed="rId1"/>
          <a:srcRect l="1176" t="16564" r="347" b="18173"/>
          <a:stretch/>
        </p:blipFill>
        <p:spPr>
          <a:xfrm>
            <a:off x="108000" y="1749600"/>
            <a:ext cx="9036000" cy="44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8" name="Rectangle 5"/>
          <p:cNvGrpSpPr/>
          <p:nvPr/>
        </p:nvGrpSpPr>
        <p:grpSpPr>
          <a:xfrm>
            <a:off x="96840" y="2346480"/>
            <a:ext cx="9059760" cy="3335040"/>
            <a:chOff x="96840" y="2346480"/>
            <a:chExt cx="9059760" cy="3335040"/>
          </a:xfrm>
        </p:grpSpPr>
        <p:pic>
          <p:nvPicPr>
            <p:cNvPr id="539" name="Rectangle 5" descr=""/>
            <p:cNvPicPr/>
            <p:nvPr/>
          </p:nvPicPr>
          <p:blipFill>
            <a:blip r:embed="rId2"/>
            <a:stretch/>
          </p:blipFill>
          <p:spPr>
            <a:xfrm>
              <a:off x="96840" y="2346480"/>
              <a:ext cx="9059760" cy="33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08000" y="2357280"/>
              <a:ext cx="903600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Footer Placeholder 7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0A7E-03DA-4750-B9E3-278A314DF772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862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Arial"/>
                <a:ea typeface="ＭＳ Ｐゴシック"/>
              </a:rPr>
              <a:t>In Conclusion 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285840" y="785880"/>
            <a:ext cx="82706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Hi-precision geo-spatial foundation data, consistent source data and       production methodology, plus open standard data for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No need for external data such as G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Homogeneity across country borders and broa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Coherent 3 dimensional GCPs and DEM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Allows ortho-processing of any image (WV-1, QuickBird, Ikonos,       SPO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Large coverage, growing by ~7M km² / y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Acquired nearly anywhere on the globe, in a non-intrusive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Update and refresh of data i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05510"/>
              </a:buClr>
              <a:buFont typeface="Wingdings" charset="2"/>
              <a:buChar char="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05510"/>
                </a:solidFill>
                <a:latin typeface="Arial"/>
                <a:ea typeface="ＭＳ Ｐゴシック"/>
              </a:rPr>
              <a:t>Allows emergency rapid mapping over denied or remote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5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4392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195280" y="2781360"/>
            <a:ext cx="432108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Questions?  Contact: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miller@spot.com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9" name="Date Placeholder 4"/>
          <p:cNvSpPr/>
          <p:nvPr/>
        </p:nvSpPr>
        <p:spPr>
          <a:xfrm>
            <a:off x="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E395-42D0-41DA-BF34-3579012C6844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694A-E49D-4E02-836F-4D39AED8FD95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In what kind of format is the product delivered?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Screen shot of Microsoft Explorer, with a Ref3D DIMAP product open.  You can click on the various products and tabs to view the individual product components.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75" name="Picture 19" descr="dimap_viewer.JPG"/>
          <p:cNvPicPr/>
          <p:nvPr/>
        </p:nvPicPr>
        <p:blipFill>
          <a:blip r:embed="rId1"/>
          <a:stretch/>
        </p:blipFill>
        <p:spPr>
          <a:xfrm>
            <a:off x="1000080" y="171468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F496-6EB2-4E54-8DDF-569DB75D075E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Parts is Parts—The DEM Itself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Screen shot from RemoteView, with the DEM (.DT2 file) displayed in a 16 layer color palate, based on elevation values.  The geocell is N35E110, a region in central China.  The Luo River flows from north to south out of a mountainous area and onto an open plain. </a:t>
            </a:r>
            <a:endParaRPr b="1" lang="en-US" sz="1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81" name="Picture 6" descr="N35E110_DEM.JPG"/>
          <p:cNvPicPr/>
          <p:nvPr/>
        </p:nvPicPr>
        <p:blipFill>
          <a:blip r:embed="rId1"/>
          <a:stretch/>
        </p:blipFill>
        <p:spPr>
          <a:xfrm>
            <a:off x="1876320" y="1454040"/>
            <a:ext cx="5338800" cy="4975200"/>
          </a:xfrm>
          <a:prstGeom prst="rect">
            <a:avLst/>
          </a:prstGeom>
          <a:ln w="0">
            <a:noFill/>
          </a:ln>
        </p:spPr>
      </p:pic>
      <p:sp>
        <p:nvSpPr>
          <p:cNvPr id="182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8660-9758-4526-A002-A829B4A16833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Parts is Parts—The Water Mask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Water mask of N35E110, an area in central China.  The Ref3D product comes with a total of eight quality masks, the water mask is one of the eight.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87" name="Picture 5" descr="N35E110.jpg"/>
          <p:cNvPicPr/>
          <p:nvPr/>
        </p:nvPicPr>
        <p:blipFill>
          <a:blip r:embed="rId1"/>
          <a:stretch/>
        </p:blipFill>
        <p:spPr>
          <a:xfrm>
            <a:off x="2071800" y="1285920"/>
            <a:ext cx="5072040" cy="507204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3BE3-6604-4689-81EF-083EC2CD5E9E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Parts is Parts—Other Masks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Correlation Mask (MCo)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Cloud/snow Mask (MCl)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Exogenous Mask (MEx) —Areas where other DEM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data has been inserted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Regulation Mask (MRe) —Where interpolation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has been done to fill in voids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Quality Mask (MQu)—Based on the manual assessment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of an operator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Merge Mask (MMe)—Shows areas of overlap boundaries for the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HRS strips that make up the coverage in a one degree geocell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MVa Mask—Sum of MQu + MRe + MCl + MEx  = MVa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75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3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N35_MCo.JPG"/>
          <p:cNvPicPr/>
          <p:nvPr/>
        </p:nvPicPr>
        <p:blipFill>
          <a:blip r:embed="rId1"/>
          <a:stretch/>
        </p:blipFill>
        <p:spPr>
          <a:xfrm>
            <a:off x="7286760" y="71424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0"/>
          <p:cNvSpPr/>
          <p:nvPr/>
        </p:nvSpPr>
        <p:spPr>
          <a:xfrm>
            <a:off x="7572240" y="235728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M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N35_MMe.JPG"/>
          <p:cNvPicPr/>
          <p:nvPr/>
        </p:nvPicPr>
        <p:blipFill>
          <a:blip r:embed="rId2"/>
          <a:stretch/>
        </p:blipFill>
        <p:spPr>
          <a:xfrm>
            <a:off x="7215120" y="428616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3"/>
          <p:cNvSpPr/>
          <p:nvPr/>
        </p:nvSpPr>
        <p:spPr>
          <a:xfrm>
            <a:off x="7719840" y="6072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694F-B0CD-4549-9AC5-34578B9B0F17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2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92"/>
                </a:solidFill>
                <a:latin typeface="Tahoma"/>
                <a:ea typeface="HGP創英角ｺﾞｼｯｸUB"/>
              </a:rPr>
              <a:t>Parts is Parts—The Orthomosaic</a:t>
            </a:r>
            <a:endParaRPr b="1" lang="en-US" sz="24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85480" y="691920"/>
            <a:ext cx="8412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Screen shot using RemoteView to show a portion of the orthomosaic. </a:t>
            </a:r>
            <a:endParaRPr b="1" lang="en-US" sz="16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202" name="Picture 5" descr="N35E110_ORTHO.JPG"/>
          <p:cNvPicPr/>
          <p:nvPr/>
        </p:nvPicPr>
        <p:blipFill>
          <a:blip r:embed="rId1"/>
          <a:stretch/>
        </p:blipFill>
        <p:spPr>
          <a:xfrm>
            <a:off x="642960" y="1143000"/>
            <a:ext cx="7786800" cy="5289480"/>
          </a:xfrm>
          <a:prstGeom prst="rect">
            <a:avLst/>
          </a:prstGeom>
          <a:ln w="0">
            <a:noFill/>
          </a:ln>
        </p:spPr>
      </p:pic>
      <p:sp>
        <p:nvSpPr>
          <p:cNvPr id="203" name="Footer Placeholder 6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92"/>
                </a:solidFill>
                <a:latin typeface="Arial"/>
              </a:rPr>
              <a:t>Reference3D Product—Some Additional Details</a:t>
            </a:r>
            <a:endParaRPr b="1" lang="en-US" sz="2200" spc="-1" strike="noStrike">
              <a:solidFill>
                <a:srgbClr val="004992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240" y="428400"/>
            <a:ext cx="903132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ource electro optical (EO) data comes from the High Resolution Stereo (HRS) instrument, operational on the SPOT 5 satellite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 mountainous areas High Resolution Ground (HRG) imagery is also collected at Nadir, to enhance elevation extraction and prevent blind spots.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road area along-track stereo image collection.  Each HRS strip pair is 120 KM wide by 600 KM long.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ll processing is done </a:t>
            </a:r>
            <a:r>
              <a:rPr b="1" lang="en-US" sz="2000" spc="-1" strike="noStrike">
                <a:solidFill>
                  <a:srgbClr val="004992"/>
                </a:solidFill>
                <a:latin typeface="Arial"/>
              </a:rPr>
              <a:t>without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Ground Control Points (GCPs)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bsolute horizontal accuracy is 15 M CE90, or better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bsolute vertical accuracy is 10-30 M LE90, depending on terrain slope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tput DEM file (.DT2) completely conforms to the National Geospatial-Intelligence Agency (NGA) Digital Terrain Elevation Data) DTED specification, level 2 data density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ike the SRTM DEM, Ref3D is a surface DEM, and NOT a bare Earth DEM. </a:t>
            </a: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0" y="6647040"/>
            <a:ext cx="9144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Arial"/>
              </a:rPr>
              <a:t>Alaska Dem Worksh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4"/>
          <p:cNvSpPr/>
          <p:nvPr/>
        </p:nvSpPr>
        <p:spPr>
          <a:xfrm>
            <a:off x="7920" y="660708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© Spot Image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394160" y="6492960"/>
            <a:ext cx="341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2E60-BB6E-4F94-9F0C-42011D8A3B84}" type="slidenum">
              <a:rPr b="1" lang="fr-FR" sz="700" spc="-1" strike="noStrike">
                <a:solidFill>
                  <a:srgbClr val="00499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9:49:23Z</dcterms:created>
  <dc:creator>Spot Image</dc:creator>
  <dc:description/>
  <dc:language>en-US</dc:language>
  <cp:lastModifiedBy>Bruce Ogden</cp:lastModifiedBy>
  <dcterms:modified xsi:type="dcterms:W3CDTF">2008-07-17T17:28:54Z</dcterms:modified>
  <cp:revision>245</cp:revision>
  <dc:subject/>
  <dc:title>Initial Horizontal Statistical Evaluation Summary  SRTM DEM  to SPOT DEM  (all values are in meters)</dc:title>
</cp:coreProperties>
</file>